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howcard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F3D2-9679-4F41-95AB-87DAE2E7235B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29DF-0B1E-4D30-B5D3-E743329156C5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60C2-D58E-49CC-8FFA-7DF78D5B4630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5A7B-7765-440A-9744-869A3388C087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2D34-A14D-40C3-B110-4B8A10ED6447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3D9B-5C87-436B-AE69-842D55F56DED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897B-5176-4818-9F5B-0E54F21BCED8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D4F8-68BF-481B-910F-487BB82CC6F8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C169-1D35-4566-BB41-55BA1D638C10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3273-6C6B-4F6B-BF18-0CB50554A8A2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5621-CA0F-456E-9BC6-0EB8656A2E96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C8B2-F147-4B8E-8064-B0FDEBB4D663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B849-0BEE-438D-8241-1CBB2777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409A-843F-4638-83BE-51A34609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1FE6-E72E-4319-9776-506ABB9D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C887-5A38-409D-AC06-EDA85316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CD8F-B31A-4635-B634-CF39EC8F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941-BDC9-48EF-BFBD-ACAE309D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B8CC-1F0F-4910-B650-310F3633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82D7-241A-4B22-93FD-09CE5642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4120-616F-4BF1-93FF-3EE6338A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909F-A4FD-4A2B-9DF8-7963C47D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2DFB-E621-44FA-8FB6-64F9792B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A152-A456-41FE-977D-FCBC32E1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Showcard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Showcard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Showcard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howcard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howcard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Showcard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DCCC-168C-462A-8EE4-2C2E77C28D20}" type="slidenum">
              <a:rPr b="0" lang="en-US" sz="14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my sweet old etcetera”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An Exercise in Understanding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Discuss the significance of capitalizing “Your” and “Etcetera” in the last two lines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Wrap-up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oper Black"/>
              </a:rPr>
              <a:t>For homework, reflect on the discoveries we made in class on the untitled poem “my sweet old etcetera.”</a:t>
            </a:r>
            <a:endParaRPr b="0" lang="en-US" sz="30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oper Black"/>
              </a:rPr>
              <a:t>Reveal HOW you figured out the meaning</a:t>
            </a:r>
            <a:endParaRPr b="0" lang="en-US" sz="26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oper Black"/>
              </a:rPr>
              <a:t>Compare the way we discovered this poem with the way we dissected the others.</a:t>
            </a:r>
            <a:endParaRPr b="0" lang="en-US" sz="26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oper Black"/>
              </a:rPr>
              <a:t>Write about how you plan to integrate analysis and exploration next week when you write a literary analysis.</a:t>
            </a:r>
            <a:endParaRPr b="0" lang="en-US" sz="2600" spc="-1" strike="noStrike">
              <a:solidFill>
                <a:srgbClr val="000000"/>
              </a:solidFill>
              <a:latin typeface="Showcard Gothi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Due Monday: double-spaced, at least 250 words, and typed or written in blue or black ink.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Writer’s Notebook Writing Prompt</a:t>
            </a:r>
            <a:endParaRPr b="0" lang="en-US" sz="40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In your writer’s notebook, talk about the term “and, yeah…,” or “whatever.” What do these phrases mean? What do you leave out when you end sentences with them?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Poem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2280" y="1001880"/>
            <a:ext cx="88394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my sweet old etcetera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aunt lucy during the recen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war could and wha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is more did tell you jus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what everybody was fighting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for,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my sister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isabel created hundreds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(and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hundreds) of socks not to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mention shirts fleaproof earwarmers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etcetera wristers etcetera, my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mother hoped tha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i would die etcetera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bravely of course my father used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to become hoarse talking about how it was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a privilege and if only he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could meanwhile my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self etcetera lay quietly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in the deep mud e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cetera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(dreaming,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e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cetera, of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Your smile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eyes knees and of your Etcetera)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Fish Bowl Rules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096560"/>
            <a:ext cx="8686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Only one person speaks at a time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Participants must use cues such as body language and eye contact to determine when it is appropriate to speak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If two people start to speak at the same time, one must yield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Cooper Black"/>
              </a:rPr>
              <a:t>All</a:t>
            </a: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 participants look at the person speaking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Questions can be asked of other participants in the inner circle to motivate them to join in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Disagree politely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State your ideas and support them with evidence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Respond to the comments of other participants by agreeing or disagreeing and </a:t>
            </a:r>
            <a:r>
              <a:rPr b="1" i="1" lang="en-US" sz="2100" spc="-1" strike="noStrike" u="sng">
                <a:solidFill>
                  <a:srgbClr val="000000"/>
                </a:solidFill>
                <a:uFillTx/>
                <a:latin typeface="Cooper Black"/>
              </a:rPr>
              <a:t>offering additional evidence</a:t>
            </a: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Record notes, quotations from the text(s), statistics, etc., that support your ideas and opinions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The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oper Black"/>
              </a:rPr>
              <a:t>teacher</a:t>
            </a: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 or seminar leader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oper Black"/>
              </a:rPr>
              <a:t>does not participate in the discussion</a:t>
            </a: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 except to provide a new question or to terminate an irrelevant or inappropriate line of discussion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5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Rubric Explanation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Note the expectations on the rubric: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State and identify issues to be discussed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Use foundational knowledge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Elaborate &amp; explain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Provide reasons, evidence, etc.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Invite other people to contribute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Challenge the accuracy of your companions’ statements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0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How to Fishbowl Set-up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Only people sitting in the inner circle may speak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If someone from the outer circle has something to say, he or she sits in one of the two side desks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Said participant may stay as long as he or she has something meaningful to share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Outer circle participants must take notes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What is going on in the poem?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(Put simply, what is the plot?)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Discuss the speaker’s attitude about war, his family, and his beloved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Discuss the way “etcetera/Etcetera” changes throughout the poem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How it’s used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What it means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What IS “etcetera” in each of these passages?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02:27:40Z</dcterms:created>
  <dc:creator>deborah gottner</dc:creator>
  <dc:description/>
  <dc:language>en-US</dc:language>
  <cp:lastModifiedBy>Gottner-Grant, Deborah</cp:lastModifiedBy>
  <dcterms:modified xsi:type="dcterms:W3CDTF">2010-03-19T12:56:43Z</dcterms:modified>
  <cp:revision>29</cp:revision>
  <dc:subject/>
  <dc:title>“my sweet old etcetera”</dc:title>
</cp:coreProperties>
</file>