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5C70-3742-4DA4-B37B-CBE6E22B64BE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0672-3371-4229-B60F-853DA8FA5062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6518-42FD-4AF0-A664-EB7043520BC2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5E14-33A0-41B2-B12A-011660BBA8A7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0C13-47E1-47F6-AD31-8A961DC3437D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E5F8-7F2B-4523-BBF8-A8B63F973C6C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ED78-0A2F-4B69-B087-1622EA189372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F558-1834-419E-A1EB-4B92257D1402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B5B1-79CA-4062-B586-EFEEAB2B62BE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F0B2-4814-4BC0-B796-FABF96175BAE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21A6-6E83-442F-AB17-99BB71911BAC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C286-D98F-4203-ACA1-900A80522391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92F-4234-4A2D-BDDD-B0B17EBE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8B6-B5C8-4E1C-AAE4-20E7442E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1E3-7B58-4397-B7FA-00B2EB12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2CF-80DA-4083-960A-1E68FCE1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91B-CB8A-4A44-8A85-2E99C986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ABF-A9E5-4017-B0BF-3A386818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99A-4EAC-4EB9-876C-49DB4174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1CB-B6F2-4B57-A2AB-02657724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D2A-AA64-4F19-9300-0CA8B0A2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3CC-F134-42CE-87EC-D39B574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D77-094A-43B8-82FA-D5D0603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123-9275-498F-A177-8703023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EBF6-5E85-470C-B38C-F1B51966B38E}" type="slidenum">
              <a:rPr b="0" lang="en-US" sz="14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my sweet old etcetera”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n Exercise in Understanding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ignificance of capitalizing “Your” and “Etcetera” in the last two lin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Wrap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For homework, reflect on the discoveries we made in class on the untitled poem “my sweet old etcetera.”</a:t>
            </a:r>
            <a:endParaRPr b="0" lang="en-US" sz="30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Reveal HOW you figured out the meaning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Compare the way we discovered this poem with the way we dissected the other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Write about how you plan to integrate analysis and exploration next week when you write a literary analysi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ue Monday: double-spaced, at least 250 words, and typed or written in blue or black ink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Writer’s Notebook Writing Prompt</a:t>
            </a: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n your writer’s notebook, talk about the term “and, yeah…,” or “whatever.” What do these phrases mean? What do you leave out when you end sentences with th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001880"/>
            <a:ext cx="8839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weet old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unt lucy during the recen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ar could and w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 more did tell you jus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hat everybody was fighting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for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ister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abel created hundred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an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hundreds) of socks not to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ention shirts fleaproof earwarmer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cetera wristers etcetera,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other hoped t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 would die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bravely of course my father use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to become hoarse talking about how it wa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 privilege and if only h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ould meanwhile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self etcetera lay quietl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n the deep mud 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dreaming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, of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Your smil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yes knees and of your Etcetera)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Fish Bowl Rules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96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Only one person speaks at a tim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Participants must use cues such as body language and eye contact to determine when it is appropriate to speak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If two people start to speak at the same time, one must yield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All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participants look at the person speaking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Questions can be asked of other participants in the inner circle to motivate them to join i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Disagree politely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State your ideas and support them with evidenc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spond to the comments of other participants by agreeing or disagreeing and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offering additional evidence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cord notes, quotations from the text(s), statistics, etc., that support your ideas and opinions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teacher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or seminar leader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does not participate in the discussion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except to provide a new question or to terminate an irrelevant or inappropriate line of discussio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Rubric Explanation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te the expectations on the rubric: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tate and identify issues to be discus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Use foundational knowledg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Elaborate &amp; explain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rovide reasons, evidence, etc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nvite other people to contribut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the accuracy of your companions’ statement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How to Fishbowl Set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nly people sitting in the inner circle may speak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f someone from the outer circle has something to say, he or she sits in one of the two side desk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aid participant may stay as long as he or she has something meaningful to share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uter circle participants must take not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at is going on in the po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(Put simply, what is the plot?)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peaker’s attitude about war, his family, and his beloved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way “etcetera/Etcetera” changes throughout the poem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How it’s u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it mean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“etcetera” in each of these passages?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2:27:40Z</dcterms:created>
  <dc:creator>deborah gottner</dc:creator>
  <dc:description/>
  <dc:language>en-US</dc:language>
  <cp:lastModifiedBy>Gottner-Grant, Deborah</cp:lastModifiedBy>
  <dcterms:modified xsi:type="dcterms:W3CDTF">2010-03-19T12:56:43Z</dcterms:modified>
  <cp:revision>29</cp:revision>
  <dc:subject/>
  <dc:title>“my sweet old etcetera”</dc:title>
</cp:coreProperties>
</file>