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3C12-6E23-45FA-8E7F-97BA0696DA35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64AA-126B-4659-97F5-F4FD09ADA36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F67-EB29-46D2-A452-DB88C36E7124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BCC8-1933-4F99-9338-A776D2ACED09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FDD-F07A-4021-BD16-A741E1AB1B06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9E29-8571-47E4-8049-F71DA0B1AFA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55A6-A208-4174-975B-C5F46C61EA8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CADC-31AC-4692-B1FF-AB3A76FC92C5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70B-733C-41BD-985E-DF153AD010F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4CA3-E1DD-410E-A88B-E6C3D5D5D07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DBA9-3C05-4EFB-8A1C-511C74B32DB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3B89-F29A-4128-BB55-6EEB38EB042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CC2-8A6C-4DAF-99D3-53F37170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F6B-899A-4B90-AA0D-CB81226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08A-6B0F-4FDF-94F5-427E2D3C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575-2425-4A78-B6F4-F4AF6542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801-4999-41FD-ABD1-8E49ADC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826-C043-4E34-9F96-157BCE92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912-FAB8-4593-8602-44CD113F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B4C-66CF-4E7B-A2B0-3E1267B9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FE8-FBB4-4B37-B0BD-466846A1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9C2-4650-4A63-8488-CAD277D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BCB-C716-4DCA-980F-F7CB5C1A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44F-34BC-4FB1-9BDB-69649AE8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90F-B3F3-4ABD-93A8-5E9C8903F4D5}" type="slidenum">
              <a:rPr b="0" lang="en-US" sz="14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my sweet old etcetera”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n Exercise in Understanding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ignificance of capitalizing “Your” and “Etcetera” in the last two lin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For homework, reflect on the discoveries we made in class on the untitled poem “my sweet old etcetera.”</a:t>
            </a:r>
            <a:endParaRPr b="0" lang="en-US" sz="30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Reveal HOW you figured out the meaning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Compare the way we discovered this poem with the way we dissected the other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Write about how you plan to integrate analysis and exploration next week when you write a literary analysi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ue Monday: double-spaced, at least 250 words, and typed or written in blue or black ink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riter’s Notebook Writing Prompt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n your writer’s notebook, talk about the term “and, yeah…,” or “whatever.” What do these phrases mean? What do you leave out when you end sentences with th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001880"/>
            <a:ext cx="883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weet old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unt lucy during the recen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ar could and w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 more did tell you jus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hat everybody was fighting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for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ister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abel created hundred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an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hundreds) of socks not to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ention shirts fleaproof earwarmer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cetera wristers etcetera,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other hoped t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 would die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bravely of course my father use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to become hoarse talking about how it wa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 privilege and if only h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ould meanwhile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self etcetera lay quietl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n the deep mud 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dreaming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, of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Your smil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yes knees and of your Etcetera)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Fish Bowl Rules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Only one person speaks at a tim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Participants must use cues such as body language and eye contact to determine when it is appropriate to speak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If two people start to speak at the same time, one must yield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All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participants look at the person speaking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Questions can be asked of other participants in the inner circle to motivate them to join i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Disagree politely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State your ideas and support them with evidenc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spond to the comments of other participants by agreeing or disagreeing an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offering additional evidence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cord notes, quotations from the text(s), statistics, etc., that support your ideas and opinions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teacher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or seminar leader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does not participate in the discussion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except to provide a new question or to terminate an irrelevant or inappropriate line of discussio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Rubric Explanation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te the expectations on the rubric: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tate and identify issues to be discus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Use foundational knowledg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Elaborate &amp; explain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rovide reasons, evidence, etc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nvite other people to contribut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the accuracy of your companions’ statement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to Fishbowl Set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nly people sitting in the inner circle may speak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f someone from the outer circle has something to say, he or she sits in one of the two side desk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aid participant may stay as long as he or she has something meaningful to share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uter circle participants must take not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is going on in the po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(Put simply, what is the plot?)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peaker’s attitude about war, his family, and his beloved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way “etcetera/Etcetera” changes throughout the poem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How it’s u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it mean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“etcetera” in each of these passages?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27:40Z</dcterms:created>
  <dc:creator>deborah gottner</dc:creator>
  <dc:description/>
  <dc:language>en-US</dc:language>
  <cp:lastModifiedBy>Gottner-Grant, Deborah</cp:lastModifiedBy>
  <dcterms:modified xsi:type="dcterms:W3CDTF">2010-03-19T12:56:43Z</dcterms:modified>
  <cp:revision>29</cp:revision>
  <dc:subject/>
  <dc:title>“my sweet old etcetera”</dc:title>
</cp:coreProperties>
</file>