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E182-3FC0-4379-8333-52DDB1BB352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695C-518D-4E95-9300-9E15976091D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3133-19F9-406A-9D87-E293A76558B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CCDD-8B72-4387-A951-46743CC80CB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5AC-5A63-4797-B4FA-5507E2BB2D7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36F0-B6C1-422F-BDA5-1369D51B9BEA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04F2-28F4-4F5D-9F59-BCF340201E1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807-E87A-4A8D-9D4E-F98F77071EC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0C00-CACA-4B02-94AE-D139DB041DD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A36-84F2-47FA-A94C-9C73E227C84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295E-897D-4025-A30B-B726363F862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5E98-5C0A-4D5F-920D-5CE1B1A2DFA4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FF5-8E3E-4EC7-8F0A-0E081C15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C56-6CF8-44F3-86D0-8224921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E50-B37F-46CC-A9C1-CD589C4F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08D-C22A-4ACE-8037-A7925BB3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0A7-0CE0-4A77-9AB0-F12A0078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3DE-26D9-48C1-AED3-EEAFAB67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48A-25BA-4296-A66B-CEE3D32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950-CADA-4F02-88E7-7458C8A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940-31FF-47A2-913C-4508390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6FD-AE68-4FBD-B9D0-C738FC3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E66-F29A-4CB1-87A7-76EA083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8D3-4B26-4713-AB25-9488746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4A75-4538-46D6-9F51-8B2760B2C1FE}" type="slidenum">
              <a:rPr b="0" lang="en-US" sz="14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my sweet old etcetera”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n Exercise in Understanding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ignificance of capitalizing “Your” and “Etcetera” in the last two lin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For homework, reflect on the discoveries we made in class on the untitled poem “my sweet old etcetera.”</a:t>
            </a:r>
            <a:endParaRPr b="0" lang="en-US" sz="30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Reveal HOW you figured out the meaning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Compare the way we discovered this poem with the way we dissected the other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Write about how you plan to integrate analysis and exploration next week when you write a literary analysi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ue Monday: double-spaced, at least 250 words, and typed or written in blue or black ink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riter’s Notebook Writing Prompt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n your writer’s notebook, talk about the term “and, yeah…,” or “whatever.” What do these phrases mean? What do you leave out when you end sentences with th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001880"/>
            <a:ext cx="883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weet old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unt lucy during the recen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ar could and w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 more did tell you jus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hat everybody was fighting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for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ister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abel created hundred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an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hundreds) of socks not to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ention shirts fleaproof earwarmer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cetera wristers etcetera,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other hoped t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 would die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bravely of course my father use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to become hoarse talking about how it wa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 privilege and if only h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ould meanwhile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self etcetera lay quietl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n the deep mud 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dreaming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, of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Your smil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yes knees and of your Etcetera)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Fish Bowl Rules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Only one person speaks at a tim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Participants must use cues such as body language and eye contact to determine when it is appropriate to speak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If two people start to speak at the same time, one must yield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All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participants look at the person speaking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Questions can be asked of other participants in the inner circle to motivate them to join i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Disagree politely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State your ideas and support them with evidenc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spond to the comments of other participants by agreeing or disagreeing an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offering additional evidence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cord notes, quotations from the text(s), statistics, etc., that support your ideas and opinions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teacher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or seminar leader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does not participate in the discussion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except to provide a new question or to terminate an irrelevant or inappropriate line of discussio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Rubric Explanation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te the expectations on the rubric: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tate and identify issues to be discus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Use foundational knowledg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Elaborate &amp; explain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rovide reasons, evidence, etc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nvite other people to contribut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the accuracy of your companions’ statement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to Fishbowl Set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nly people sitting in the inner circle may speak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f someone from the outer circle has something to say, he or she sits in one of the two side desk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aid participant may stay as long as he or she has something meaningful to share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uter circle participants must take not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is going on in the po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(Put simply, what is the plot?)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peaker’s attitude about war, his family, and his beloved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way “etcetera/Etcetera” changes throughout the poem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How it’s u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it mean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“etcetera” in each of these passages?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27:40Z</dcterms:created>
  <dc:creator>deborah gottner</dc:creator>
  <dc:description/>
  <dc:language>en-US</dc:language>
  <cp:lastModifiedBy>Gottner-Grant, Deborah</cp:lastModifiedBy>
  <dcterms:modified xsi:type="dcterms:W3CDTF">2010-03-19T12:56:43Z</dcterms:modified>
  <cp:revision>29</cp:revision>
  <dc:subject/>
  <dc:title>“my sweet old etcetera”</dc:title>
</cp:coreProperties>
</file>