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7247-8E79-4762-8891-1B3551244E65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7A51-42FF-4956-9B46-119F73A1FD47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A258-EDE2-42D9-AB02-727A8A3CB6B1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4659-FBEB-427C-968A-6CE735B4C707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0902-E4D2-4590-8982-E39191A0D7CC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DE5C-BFCB-4F0F-8730-091FF236F551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0393-A4E9-436E-8526-36F6E48F1B2E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E441-A15D-46FB-932C-5F312E6897C6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9C20-EE17-498A-B01E-BBD05A584281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A61C-1D35-44AD-8111-76B2EB8E1D12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184B-9D27-4B5A-A22A-410F23FD8E0F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A10E-631D-4784-8F69-C6BDDE7A95F8}" type="slidenum">
              <a:rPr b="0" lang="en-US" sz="12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03D-5BDB-4F05-B7E6-DF4304B1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D0B-3D67-4438-A11D-54A1362D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484-D254-4467-8A38-A66490C1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866-47E8-4A95-B9CA-60F0B60A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523-C138-44DE-9246-4D5BB568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B92-BF69-4E94-AB63-AE9C080C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593-508D-4082-8EE8-D16A34C7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9F7-5EC1-4D37-881D-73E3EED9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129-4D57-4897-89CA-018D7E89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BF4-B1C1-42BA-9FD3-0E157881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C0F-6AA9-4331-8936-D12997F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230-69A1-44B0-8498-93DB5DD8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howcard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howcard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3D16-8C35-4284-BBD9-7CE9A2E6D66C}" type="slidenum">
              <a:rPr b="0" lang="en-US" sz="1400" spc="-1" strike="noStrike">
                <a:solidFill>
                  <a:srgbClr val="000000"/>
                </a:solidFill>
                <a:latin typeface="Showcard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my sweet old etcetera”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An Exercise in Understanding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ignificance of capitalizing “Your” and “Etcetera” in the last two lin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Wrap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For homework, reflect on the discoveries we made in class on the untitled poem “my sweet old etcetera.”</a:t>
            </a:r>
            <a:endParaRPr b="0" lang="en-US" sz="30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Reveal HOW you figured out the meaning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Compare the way we discovered this poem with the way we dissected the other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oper Black"/>
              </a:rPr>
              <a:t>Write about how you plan to integrate analysis and exploration next week when you write a literary analysis.</a:t>
            </a:r>
            <a:endParaRPr b="0" lang="en-US" sz="26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ue Monday: double-spaced, at least 250 words, and typed or written in blue or black ink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Writer’s Notebook Writing Prompt</a:t>
            </a: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n your writer’s notebook, talk about the term “and, yeah…,” or “whatever.” What do these phrases mean? What do you leave out when you end sentences with th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Poem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001880"/>
            <a:ext cx="8839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weet old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unt lucy during the recen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ar could and w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 more did tell you jus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what everybody was fighting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for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y sister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sabel created hundred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an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hundreds) of socks not to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ention shirts fleaproof earwarmer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cetera wristers etcetera,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mother hoped tha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 would die et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bravely of course my father used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to become hoarse talking about how it was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a privilege and if only h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ould meanwhile m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self etcetera lay quietly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in the deep mud 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(dreaming,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cetera, of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Your smile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ＭＳ Ｐゴシック"/>
              </a:rPr>
              <a:t>eyes knees and of your Etcetera)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Fish Bowl Rules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96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Only one person speaks at a tim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Participants must use cues such as body language and eye contact to determine when it is appropriate to speak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If two people start to speak at the same time, one must yield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All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participants look at the person speaking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Questions can be asked of other participants in the inner circle to motivate them to join i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Disagree politely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State your ideas and support them with evidence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spond to the comments of other participants by agreeing or disagreeing and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offering additional evidence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Record notes, quotations from the text(s), statistics, etc., that support your ideas and opinions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teacher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or seminar leader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oper Black"/>
              </a:rPr>
              <a:t>does not participate in the discussion</a:t>
            </a:r>
            <a:r>
              <a:rPr b="0" lang="en-US" sz="2100" spc="-1" strike="noStrike">
                <a:solidFill>
                  <a:srgbClr val="000000"/>
                </a:solidFill>
                <a:latin typeface="Cooper Black"/>
              </a:rPr>
              <a:t> except to provide a new question or to terminate an irrelevant or inappropriate line of discussion.</a:t>
            </a:r>
            <a:endParaRPr b="0" lang="en-US" sz="21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Rubric Explanation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ote the expectations on the rubric: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State and identify issues to be discus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Use foundational knowledg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Elaborate &amp; explain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rovide reasons, evidence, etc.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nvite other people to contribute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the accuracy of your companions’ statement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How to Fishbowl Set-up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nly people sitting in the inner circle may speak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If someone from the outer circle has something to say, he or she sits in one of the two side desk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aid participant may stay as long as he or she has something meaningful to share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Outer circle participants must take notes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hat is going on in the poem?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(Put simply, what is the plot?)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speaker’s attitude about war, his family, and his beloved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Discuss the way “etcetera/Etcetera” changes throughout the poem.</a:t>
            </a:r>
            <a:endParaRPr b="0" lang="en-US" sz="32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How it’s used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it means</a:t>
            </a:r>
            <a:endParaRPr b="0" lang="en-US" sz="2800" spc="-1" strike="noStrike">
              <a:solidFill>
                <a:srgbClr val="000000"/>
              </a:solidFill>
              <a:latin typeface="Showcard Gothic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“etcetera” in each of these passages?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2:27:40Z</dcterms:created>
  <dc:creator>deborah gottner</dc:creator>
  <dc:description/>
  <dc:language>en-US</dc:language>
  <cp:lastModifiedBy>Gottner-Grant, Deborah</cp:lastModifiedBy>
  <dcterms:modified xsi:type="dcterms:W3CDTF">2010-03-19T12:56:43Z</dcterms:modified>
  <cp:revision>29</cp:revision>
  <dc:subject/>
  <dc:title>“my sweet old etcetera”</dc:title>
</cp:coreProperties>
</file>