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howcard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BDDE-C0A6-4974-A7B0-BF7E92BAA3DA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3B4F-B484-4852-BDCF-6D018E3CA681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6D21-3DD0-44F4-8597-2025C9080403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3898-6A9D-4771-A98E-D4118A20EF4B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3D3D-6180-4674-8430-74B0BA692CFA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5AE4-2500-495D-B61A-EF7F0796B8F2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78E7-5400-4C56-BB4C-4434FE8C86D8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2357-3D6A-49A8-9A70-80E0D139F1A1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FCD9-BB6A-48B0-AA0D-3AC64F41819D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29A1-7C40-48FD-AE84-80B6B7F0EF7E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16E2-5B46-4072-8ED6-AA656B903C21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B56A-21A2-4D5E-ABC9-F3D9CF04DBB8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BC8-EC1B-40A4-AB48-D7011327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6BF-6AA3-4654-B3E1-9F802031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24B-D731-4370-AECB-39074EE3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01C-4E65-40A3-BD99-D039A3DA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D1B-86E9-415F-AB29-F03265D4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0EB-5AC1-4190-B44E-3A2BE3A2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CF9-54E1-43FF-B0BB-C631FA14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258-1A2D-4BBA-8D3B-5B955FA6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E38-8512-420C-8E5F-A9FF6925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ADD-CF9D-44D3-8803-DB075E93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59A-B228-4F7C-A7E8-D3A7102C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867-17FC-4592-BF51-342C2C8C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howcard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howcard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CDD0-BB32-4EBC-A41F-1CA65C89D87C}" type="slidenum">
              <a:rPr b="0" lang="en-US" sz="14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my sweet old etcetera”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An Exercise in Understanding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significance of capitalizing “Your” and “Etcetera” in the last two line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Wrap-up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For homework, reflect on the discoveries we made in class on the untitled poem “my sweet old etcetera.”</a:t>
            </a:r>
            <a:endParaRPr b="0" lang="en-US" sz="30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Reveal HOW you figured out the meaning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Compare the way we discovered this poem with the way we dissected the others.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Write about how you plan to integrate analysis and exploration next week when you write a literary analysis.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ue Monday: double-spaced, at least 250 words, and typed or written in blue or black ink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Writer’s Notebook Writing Prompt</a:t>
            </a: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n your writer’s notebook, talk about the term “and, yeah…,” or “whatever.” What do these phrases mean? What do you leave out when you end sentences with them?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Poem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001880"/>
            <a:ext cx="8839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y sweet old et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aunt lucy during the recen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war could and wha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s more did tell you jus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what everybody was fighting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for,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y sister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sabel created hundred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(and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hundreds) of socks not to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ention shirts fleaproof earwarmer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tcetera wristers etcetera, m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other hoped tha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 would die et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bravely of course my father used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to become hoarse talking about how it wa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a privilege and if only he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ould meanwhile m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self etcetera lay quietl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n the deep mud e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(dreaming,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etera, of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Your smile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yes knees and of your Etcetera)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Fish Bowl Rules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96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Only one person speaks at a time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Participants must use cues such as body language and eye contact to determine when it is appropriate to speak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If two people start to speak at the same time, one must yield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All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participants look at the person speaking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Questions can be asked of other participants in the inner circle to motivate them to join in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Disagree politely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State your ideas and support them with evidence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Respond to the comments of other participants by agreeing or disagreeing and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offering additional evidence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Record notes, quotations from the text(s), statistics, etc., that support your ideas and opinions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teacher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or seminar leader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does not participate in the discussion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except to provide a new question or to terminate an irrelevant or inappropriate line of discussion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Rubric Explanation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ote the expectations on the rubric: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tate and identify issues to be discussed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Use foundational knowledge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Elaborate &amp; explain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rovide reasons, evidence, etc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nvite other people to contribute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the accuracy of your companions’ statements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How to Fishbowl Set-up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nly people sitting in the inner circle may speak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f someone from the outer circle has something to say, he or she sits in one of the two side desk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aid participant may stay as long as he or she has something meaningful to share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uter circle participants must take note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hat is going on in the poem?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(Put simply, what is the plot?)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speaker’s attitude about war, his family, and his beloved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way “etcetera/Etcetera” changes throughout the poem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How it’s used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hat it means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“etcetera” in each of these passages?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2:27:40Z</dcterms:created>
  <dc:creator>deborah gottner</dc:creator>
  <dc:description/>
  <dc:language>en-US</dc:language>
  <cp:lastModifiedBy>Gottner-Grant, Deborah</cp:lastModifiedBy>
  <dcterms:modified xsi:type="dcterms:W3CDTF">2010-03-19T12:56:43Z</dcterms:modified>
  <cp:revision>29</cp:revision>
  <dc:subject/>
  <dc:title>“my sweet old etcetera”</dc:title>
</cp:coreProperties>
</file>