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287-1E25-43C0-B57E-5B8E4882565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other possibilities, such as the ways in which families can destroy rather than prese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8715-B1E0-4385-8395-D3705BFABB2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337-F2BA-430B-9A2B-3F9D832D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B34-3C90-45EE-85B9-B728C65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BBE-5C79-4ADB-A7B0-CECD85A2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3F2-544A-4887-8B30-1250966C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853F-FED2-4432-ACF6-4BEB9289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F304-D152-485B-A5DA-23C80962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5628-3A0B-4F2D-9A0D-CD57FE1C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E507-BE28-4CE0-AA57-6AD68A39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A4FF-CE27-4958-A8D7-C96EC2A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4D3C-776F-4FCD-83B0-90C2DBC8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3D0B-477F-4DA0-81EF-3FBDAF8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927-9DC3-44DD-A11E-A8AB33F8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61B-3E59-4AE2-B464-EB48858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E4D6-5C0B-4EA1-A9DF-719E9D65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3895-361D-43CA-B6EE-B20DCD9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D230-C18D-4286-9878-5776E390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2EA3-4FEE-4BAC-80DC-1AA7F213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90D4-FF94-4BA3-8575-113E5DD6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EF86-2395-4F34-B840-3046B8C5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3966-E238-4A9F-835C-99907C23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48E4-B62B-4248-9D8C-3B3A1034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F55F-8B5A-484E-A8A9-63CF1FC6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5BF-498F-4F9E-834A-D3F4B68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7069-A4B4-4E4D-945A-4CB7E847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4378-0BAD-4136-ABBF-674C35F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4B0A-C995-4A99-993C-1D5E4B9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DFA3-07E1-4299-B997-B82A0CA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42F2-7928-401F-84AE-21E58F94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C866-1B9D-4EE3-87B8-F4483C20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D6FB-836F-41AA-A13A-F96D454A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79B5-994B-4F75-B0C6-16765AF7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2305-FD73-4CA6-9F8E-4AE2B3B9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2C9A-36D1-4F8D-A826-5368B58C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712-EC3C-41FD-8729-A1DDA609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7EB8-81DA-4062-ACE7-AB488002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F10A-E14E-4130-89F8-B1AB72EA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D21D-F639-4CEC-8FB6-8BE8CFFD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7B4E-7863-4725-839E-12F0489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6DF18-5D04-4038-9CA5-AEB28B77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1204-C8BB-4681-B5E3-05BEFC12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95D1-D745-4F55-A097-A9EB4336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28DB-C524-4C76-80C4-6116D6D8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CF5A-CC79-418D-963D-7DF9498E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3DBA-0641-4644-BC00-B1F8E216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EF7-B638-4A87-AD04-B2983AAB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C7D2-8345-4D78-8C83-E5FB3C40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2927-855B-428A-A5A6-5C1FC561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2E7F-051B-4571-9633-783F019D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50BE1-3B3E-4D9B-AC0C-EB03809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B918-E2E8-4EA9-A274-79ADE37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117C-A23B-4C07-B773-57C96D38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A76B-974C-42C5-B241-A5C2C0D2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58D5A-8EBA-48A4-95BF-B8EA569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5F4C9-BC2C-47A0-943B-77CAD6DB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5534-A1FA-4261-B8DF-3A17AA42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E12-6C42-482D-B323-ECA9D7D1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E3B4-F738-4FC3-A303-F54D6BE0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B6585-36BC-4706-AACC-A3B1A36C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1CF2-5A8B-47B7-A7FB-F6CA60D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0B81A-2804-434A-A87A-65DFECAE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E9129-0EFC-43EE-914B-BBB08346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0FDC-29EB-4D2A-A75C-B302E3C9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D9ADF-A5A7-48BC-8B95-ADEF9A1D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DC38-1CB1-4D4F-9D5E-26FCAA6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1681-8CEF-4A60-927C-2BC7F2A0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B41F-FE74-4A0F-833E-497C73A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6E7-9922-4F32-9795-868E3702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636A-8A96-42E1-A132-CB7B9DA8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0E27-A120-4A33-85A0-175EBF0B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7FDC-41B4-436B-900A-6B0321D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3C87-964C-4EBF-A3BA-07CA71C7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36EE1-F0BD-4D82-9FCE-7A416B5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B781-2145-4AD6-8F5C-99A90D32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B4FE0-A958-4349-B95A-DF483440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B2A0-B601-4CF0-A243-A33369C4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4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536C-E9E1-49D3-924D-CCDB15E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A0806-A25B-4CF2-892D-9525A29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DD1-A357-43AE-8AC8-4C411AE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B0096-ED52-4ADC-914A-7E3D276B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1EF4A-34CF-43E7-A185-6AB35C7B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33BC9-254B-498B-992A-FF8B3B3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77440" y="403704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339F7-DA1F-4241-AD7A-E07AC500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2408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67440" y="175212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02408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67440" y="4037040"/>
            <a:ext cx="1945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A8DE-3A0D-492C-B29A-92999C1D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440" y="1752120"/>
            <a:ext cx="2948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22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565-83B5-484C-A322-286572C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679-CEEA-4C3B-936C-BD7455F5C2A0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Freeform 8" descr=""/>
          <p:cNvPicPr/>
          <p:nvPr/>
        </p:nvPicPr>
        <p:blipFill>
          <a:blip r:embed="rId4"/>
          <a:stretch/>
        </p:blipFill>
        <p:spPr>
          <a:xfrm>
            <a:off x="109440" y="378000"/>
            <a:ext cx="2841840" cy="86626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2"/>
          <p:cNvGrpSpPr/>
          <p:nvPr/>
        </p:nvGrpSpPr>
        <p:grpSpPr>
          <a:xfrm>
            <a:off x="6842520" y="4963680"/>
            <a:ext cx="2437200" cy="2287080"/>
            <a:chOff x="6842520" y="4963680"/>
            <a:chExt cx="2437200" cy="2287080"/>
          </a:xfrm>
        </p:grpSpPr>
        <p:grpSp>
          <p:nvGrpSpPr>
            <p:cNvPr id="45" name="Freeform 10"/>
            <p:cNvGrpSpPr/>
            <p:nvPr/>
          </p:nvGrpSpPr>
          <p:grpSpPr>
            <a:xfrm>
              <a:off x="6842520" y="5670000"/>
              <a:ext cx="1177200" cy="1048320"/>
              <a:chOff x="6842520" y="5670000"/>
              <a:chExt cx="1177200" cy="1048320"/>
            </a:xfrm>
          </p:grpSpPr>
          <p:pic>
            <p:nvPicPr>
              <p:cNvPr id="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7108920" y="588348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7363400">
                <a:off x="7047360" y="570492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Freeform 11"/>
            <p:cNvGrpSpPr/>
            <p:nvPr/>
          </p:nvGrpSpPr>
          <p:grpSpPr>
            <a:xfrm>
              <a:off x="7334280" y="4963680"/>
              <a:ext cx="1186560" cy="1057680"/>
              <a:chOff x="7334280" y="4963680"/>
              <a:chExt cx="1186560" cy="1057680"/>
            </a:xfrm>
          </p:grpSpPr>
          <p:pic>
            <p:nvPicPr>
              <p:cNvPr id="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8880" y="5175000"/>
                <a:ext cx="73008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7363400">
                <a:off x="7540200" y="4999680"/>
                <a:ext cx="7743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Freeform 12"/>
            <p:cNvGrpSpPr/>
            <p:nvPr/>
          </p:nvGrpSpPr>
          <p:grpSpPr>
            <a:xfrm>
              <a:off x="7630920" y="5433480"/>
              <a:ext cx="1184040" cy="1050840"/>
              <a:chOff x="7630920" y="5433480"/>
              <a:chExt cx="1184040" cy="1050840"/>
            </a:xfrm>
          </p:grpSpPr>
          <p:pic>
            <p:nvPicPr>
              <p:cNvPr id="52" name="Freeform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5520" y="564696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7363400">
                <a:off x="7839360" y="5465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Freeform 13"/>
            <p:cNvGrpSpPr/>
            <p:nvPr/>
          </p:nvGrpSpPr>
          <p:grpSpPr>
            <a:xfrm>
              <a:off x="7166160" y="6202440"/>
              <a:ext cx="1177200" cy="1048320"/>
              <a:chOff x="7166160" y="6202440"/>
              <a:chExt cx="1177200" cy="1048320"/>
            </a:xfrm>
          </p:grpSpPr>
          <p:pic>
            <p:nvPicPr>
              <p:cNvPr id="55" name="Freeform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7431840" y="6413760"/>
                <a:ext cx="7196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17363400">
                <a:off x="7371000" y="6237360"/>
                <a:ext cx="767160" cy="9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Freeform 14"/>
            <p:cNvGrpSpPr/>
            <p:nvPr/>
          </p:nvGrpSpPr>
          <p:grpSpPr>
            <a:xfrm>
              <a:off x="8095680" y="5910480"/>
              <a:ext cx="1184040" cy="1050840"/>
              <a:chOff x="8095680" y="5910480"/>
              <a:chExt cx="1184040" cy="1050840"/>
            </a:xfrm>
          </p:grpSpPr>
          <p:pic>
            <p:nvPicPr>
              <p:cNvPr id="58" name="Freeform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8361720" y="6123600"/>
                <a:ext cx="730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7363400">
                <a:off x="8304120" y="5942880"/>
                <a:ext cx="767160" cy="98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52932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26436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29EC-ADEB-49F9-9C2C-8E969B76C55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02" name="Freeform 8" descr=""/>
          <p:cNvPicPr/>
          <p:nvPr/>
        </p:nvPicPr>
        <p:blipFill>
          <a:blip r:embed="rId4"/>
          <a:stretch/>
        </p:blipFill>
        <p:spPr>
          <a:xfrm>
            <a:off x="6765840" y="658800"/>
            <a:ext cx="1738440" cy="8729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526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56840" y="6261120"/>
            <a:ext cx="28954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76AB-33D0-47C2-8EFE-71A0889DF1D1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145" name="Freeform 8" descr=""/>
          <p:cNvPicPr/>
          <p:nvPr/>
        </p:nvPicPr>
        <p:blipFill>
          <a:blip r:embed="rId4"/>
          <a:stretch/>
        </p:blipFill>
        <p:spPr>
          <a:xfrm>
            <a:off x="1689120" y="2335320"/>
            <a:ext cx="3174840" cy="218880"/>
          </a:xfrm>
          <a:prstGeom prst="rect">
            <a:avLst/>
          </a:prstGeom>
          <a:ln w="0">
            <a:noFill/>
          </a:ln>
        </p:spPr>
      </p:pic>
      <p:pic>
        <p:nvPicPr>
          <p:cNvPr id="146" name="Freeform 9" descr=""/>
          <p:cNvPicPr/>
          <p:nvPr/>
        </p:nvPicPr>
        <p:blipFill>
          <a:blip r:embed="rId5"/>
          <a:stretch/>
        </p:blipFill>
        <p:spPr>
          <a:xfrm>
            <a:off x="4913280" y="2335320"/>
            <a:ext cx="3170160" cy="218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1E0-E56B-4231-88EA-2DFF7FC600FE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190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191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194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197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6BD-3A7C-4252-B1F9-5F75586BF9F5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8"/>
          <p:cNvGrpSpPr/>
          <p:nvPr/>
        </p:nvGrpSpPr>
        <p:grpSpPr>
          <a:xfrm>
            <a:off x="7234200" y="5165280"/>
            <a:ext cx="2046960" cy="1827000"/>
            <a:chOff x="7234200" y="5165280"/>
            <a:chExt cx="2046960" cy="1827000"/>
          </a:xfrm>
        </p:grpSpPr>
        <p:grpSp>
          <p:nvGrpSpPr>
            <p:cNvPr id="242" name="Freeform 9"/>
            <p:cNvGrpSpPr/>
            <p:nvPr/>
          </p:nvGrpSpPr>
          <p:grpSpPr>
            <a:xfrm>
              <a:off x="7234200" y="5892480"/>
              <a:ext cx="1231200" cy="1099800"/>
              <a:chOff x="7234200" y="5892480"/>
              <a:chExt cx="1231200" cy="1099800"/>
            </a:xfrm>
          </p:grpSpPr>
          <p:pic>
            <p:nvPicPr>
              <p:cNvPr id="243" name="Freeform 9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2120" y="611064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17363400">
                <a:off x="7446240" y="59313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Freeform 10"/>
            <p:cNvGrpSpPr/>
            <p:nvPr/>
          </p:nvGrpSpPr>
          <p:grpSpPr>
            <a:xfrm>
              <a:off x="7744680" y="5165280"/>
              <a:ext cx="1231200" cy="1099800"/>
              <a:chOff x="7744680" y="5165280"/>
              <a:chExt cx="1231200" cy="1099800"/>
            </a:xfrm>
          </p:grpSpPr>
          <p:pic>
            <p:nvPicPr>
              <p:cNvPr id="246" name="Freeform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019000" y="5384880"/>
                <a:ext cx="756360" cy="60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17363400">
                <a:off x="7956720" y="5204160"/>
                <a:ext cx="8064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Freeform 11"/>
            <p:cNvGrpSpPr/>
            <p:nvPr/>
          </p:nvGrpSpPr>
          <p:grpSpPr>
            <a:xfrm>
              <a:off x="8052480" y="5654520"/>
              <a:ext cx="1228680" cy="1092960"/>
              <a:chOff x="8052480" y="5654520"/>
              <a:chExt cx="1228680" cy="109296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8326440" y="5876640"/>
                <a:ext cx="75636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17363400">
                <a:off x="8267040" y="5690160"/>
                <a:ext cx="799200" cy="10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F1A9-CDF2-45A4-8041-14E35D90E3C4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Freeform 7" descr=""/>
          <p:cNvPicPr/>
          <p:nvPr/>
        </p:nvPicPr>
        <p:blipFill>
          <a:blip r:embed="rId3"/>
          <a:stretch/>
        </p:blipFill>
        <p:spPr>
          <a:xfrm>
            <a:off x="-23760" y="-79200"/>
            <a:ext cx="1792080" cy="6937200"/>
          </a:xfrm>
          <a:prstGeom prst="rect">
            <a:avLst/>
          </a:prstGeom>
          <a:ln w="0">
            <a:noFill/>
          </a:ln>
        </p:spPr>
      </p:pic>
      <p:pic>
        <p:nvPicPr>
          <p:cNvPr id="293" name="Freeform 8" descr=""/>
          <p:cNvPicPr/>
          <p:nvPr/>
        </p:nvPicPr>
        <p:blipFill>
          <a:blip r:embed="rId4"/>
          <a:stretch/>
        </p:blipFill>
        <p:spPr>
          <a:xfrm>
            <a:off x="4627440" y="469800"/>
            <a:ext cx="4205520" cy="58388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981080" y="1752120"/>
            <a:ext cx="60422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5778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06400" indent="-228600">
              <a:spcBef>
                <a:spcPts val="2001"/>
              </a:spcBef>
              <a:buClr>
                <a:srgbClr val="a47c0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35000" indent="-228600">
              <a:spcBef>
                <a:spcPts val="2001"/>
              </a:spcBef>
              <a:buClr>
                <a:srgbClr val="63457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63600" indent="-228600">
              <a:spcBef>
                <a:spcPts val="2001"/>
              </a:spcBef>
              <a:buClr>
                <a:srgbClr val="25577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63600" indent="-228600">
              <a:spcBef>
                <a:spcPts val="2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889240" y="6499080"/>
            <a:ext cx="213372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81080" y="6499080"/>
            <a:ext cx="28958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027640" y="6208200"/>
            <a:ext cx="104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404040"/>
                </a:solidFill>
                <a:latin typeface="Showcard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BAF-795B-4909-AF7D-3F11006E4CE0}" type="slidenum">
              <a:rPr b="1" lang="en-US" sz="2800" spc="-1" strike="noStrike">
                <a:solidFill>
                  <a:srgbClr val="404040"/>
                </a:solidFill>
                <a:latin typeface="Showcard Gothic"/>
              </a:rPr>
              <a:t>&lt;number&gt;</a:t>
            </a:fld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1000080" y="73080"/>
            <a:ext cx="7027920" cy="138420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748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9501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94520" cy="138420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908000" y="1646280"/>
            <a:ext cx="67852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706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3" descr=""/>
          <p:cNvPicPr/>
          <p:nvPr/>
        </p:nvPicPr>
        <p:blipFill>
          <a:blip r:embed="rId2"/>
          <a:stretch/>
        </p:blipFill>
        <p:spPr>
          <a:xfrm>
            <a:off x="1908000" y="1603440"/>
            <a:ext cx="68644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969840" y="73080"/>
            <a:ext cx="7058160" cy="13842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1944720" y="1676520"/>
            <a:ext cx="6838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6754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000080" y="0"/>
            <a:ext cx="7027920" cy="145728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1944720" y="1712880"/>
            <a:ext cx="6083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27:01Z</dcterms:created>
  <dc:creator>Mr. Szott</dc:creator>
  <dc:description/>
  <dc:language>en-US</dc:language>
  <cp:lastModifiedBy>Gottner-Grant, Deborah</cp:lastModifiedBy>
  <dcterms:modified xsi:type="dcterms:W3CDTF">2010-01-08T18:04:40Z</dcterms:modified>
  <cp:revision>34</cp:revision>
  <dc:subject/>
  <dc:title>Theme</dc:title>
</cp:coreProperties>
</file>