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58D8-711A-4A7C-9B43-F044EFAAA69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e other possibilities, such as the ways in which families can destroy rather than preser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36DC-BD88-4D37-993E-EA14A630AF3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80AF-40BB-4384-A048-9CC1BDA1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8B63-6D7B-4AE2-88D2-12F924E2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24ED-C9E3-40A7-9834-463E6B9A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7074-FD96-415C-9038-4AB20E2D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25F0-E3B0-4E00-9003-1BAB775D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A697-C31D-46BD-B325-36E41712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82B1-6687-4AC7-9707-15501A62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3E4E-E931-4A98-9455-0C22525E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974F-1143-4B12-8727-3A99E7A7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2AA6-C855-4F48-B446-B6093D31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591A-355D-4CDD-A050-605D6B57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1DE1-6E7B-424E-9642-C15D74A7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F705-F938-499A-B593-0B06327B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4B6C-08FB-40A6-9E05-97DE822D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F660-E4BD-4A39-95A4-5E9B852D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3415-77B4-4CE7-813F-999171CF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9A22-7E00-468B-A016-FE7E6684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0C70B-9F94-44F1-BFBE-9AC04DAA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84708-E052-4710-9D5F-8E5101E0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AA2F2-3355-4B37-B6F5-F8CA69AE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C48A9-5E36-420D-802E-23A426B3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8E68A-B0DC-4E5F-9D6E-234AACB5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BDA-1848-4CEC-8531-98BABD82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5037F-2211-48FF-AA74-C527E0FD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2052F-FBFB-4CB8-B3D3-CE4587ED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E9136-032A-4C63-B073-19AC2C4A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E7F08-3E10-4925-87DB-ACC2BCF2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807A4-7BED-49C2-A20E-147BBCF0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DEBA8-810A-4A90-9285-341829F0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C2F6F-3848-487A-A8A8-B84E8282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611B8-6E39-4EC2-B31E-B1A6DD8F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4EEA8-6351-44F7-ADBD-92722E41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59989-8578-4461-9CB9-1F19AED5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887F-28FD-4CDC-861B-6B67F618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6D430-883F-4CA9-ADF7-6A37D167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BF6C0-E4EE-449D-82AC-C6FB1577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71735-402E-4D41-8969-4BD22F36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E0CF8-0FF9-4F01-8240-A8B17AF3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344AB-EE78-4A73-A60E-50801158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4F319-E39D-4190-B823-6B8D822A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FD6BA-84A5-4511-914F-42963F8D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E51FD-6ABE-4FAE-90B5-A2F6BB7B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8E2AB-6495-460E-97A7-622AC095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E5CD3-1A83-46B7-9349-1B01BDAC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290C-5045-4489-BF2C-3A698634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EEEA1-3A40-4968-9658-E14807C8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A6C22-91F9-4A22-AF26-E104CA60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05D2F-AC7D-43B0-97B7-BE97D52C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19CFC-F8FB-4B0F-BE37-23C72DB4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F3215-5061-4494-945F-4B0ABC3B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F07B4-78D5-4F44-B5F2-0152A1E8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EB52E-EFCC-4C8B-8CD7-D9949FD4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240BC-5235-4700-9AB1-40E4F62F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62C3D-9FE9-4789-8848-FCE3A886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FFFC7-284D-4A08-B577-44F7D2AB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552A-57C1-4AA5-BBBF-6CF061B8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E8D2F-B6E5-4F9E-A076-81699792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64515-5FEB-450C-B4EE-BAB7DB57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B94DF-2898-44C1-89B8-DF192BDE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891E0-CD30-468C-B4DF-AE040D91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27D8C-4FEE-47F3-9B72-E3AEB42A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C0BEB-69E9-41D0-95CA-05D83DBE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ABCC2-71FA-4E08-927C-7D58ED4C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94B5C-6211-49A2-940C-A032BF40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16B44-A11F-4105-99CE-754AF2CB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E66BD-EDF3-4788-A174-8255BB88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25CC-E56C-4CAC-91EC-9A9BBAA0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9C9D1-BB99-49BA-8871-7FF97287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D9BC7-A8AC-42F8-A7D8-4167F7AD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2950B-2122-497E-A70B-DA656EB2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ADEB8-9B1B-4B0A-89D0-9144C928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A2890-650C-46D0-A2F3-37C5C3D6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AC20B-31D9-4999-9DD8-A92CB344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9B8AC-E8FE-40F1-8E80-DEB945BB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50271-8666-40E3-9B4A-6A0A8C7A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2B721-4473-41F3-8FDC-58B138E9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EE24A-60C3-419C-8329-58D7B994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12FA-CD90-49F9-A234-7422E039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B3363-4E86-4EA9-B7AF-12CD633D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34723-7321-4B4A-AC78-534C0591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CA522-D74E-4409-875E-9B10C213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0995C-420C-42BC-B373-7AB314CF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FF68D-C124-47B8-B2DC-DE55B1B8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006-4BA9-4F04-96A7-9FE9F50B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8281-EC9C-41A0-8708-6B0D3BD5297B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pic>
        <p:nvPicPr>
          <p:cNvPr id="43" name="Freeform 8" descr=""/>
          <p:cNvPicPr/>
          <p:nvPr/>
        </p:nvPicPr>
        <p:blipFill>
          <a:blip r:embed="rId4"/>
          <a:stretch/>
        </p:blipFill>
        <p:spPr>
          <a:xfrm>
            <a:off x="109440" y="378000"/>
            <a:ext cx="2841840" cy="866268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32"/>
          <p:cNvGrpSpPr/>
          <p:nvPr/>
        </p:nvGrpSpPr>
        <p:grpSpPr>
          <a:xfrm>
            <a:off x="6842520" y="4963680"/>
            <a:ext cx="2437200" cy="2287080"/>
            <a:chOff x="6842520" y="4963680"/>
            <a:chExt cx="2437200" cy="2287080"/>
          </a:xfrm>
        </p:grpSpPr>
        <p:grpSp>
          <p:nvGrpSpPr>
            <p:cNvPr id="45" name="Freeform 10"/>
            <p:cNvGrpSpPr/>
            <p:nvPr/>
          </p:nvGrpSpPr>
          <p:grpSpPr>
            <a:xfrm>
              <a:off x="6842520" y="5670000"/>
              <a:ext cx="1177200" cy="1048320"/>
              <a:chOff x="6842520" y="5670000"/>
              <a:chExt cx="1177200" cy="1048320"/>
            </a:xfrm>
          </p:grpSpPr>
          <p:pic>
            <p:nvPicPr>
              <p:cNvPr id="46" name="Freeform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7108920" y="5883480"/>
                <a:ext cx="71964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 rot="17363400">
                <a:off x="7047360" y="5704920"/>
                <a:ext cx="767160" cy="9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Freeform 11"/>
            <p:cNvGrpSpPr/>
            <p:nvPr/>
          </p:nvGrpSpPr>
          <p:grpSpPr>
            <a:xfrm>
              <a:off x="7334280" y="4963680"/>
              <a:ext cx="1186560" cy="1057680"/>
              <a:chOff x="7334280" y="4963680"/>
              <a:chExt cx="1186560" cy="1057680"/>
            </a:xfrm>
          </p:grpSpPr>
          <p:pic>
            <p:nvPicPr>
              <p:cNvPr id="49" name="Freeform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7598880" y="5175000"/>
                <a:ext cx="730080" cy="57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 rot="17363400">
                <a:off x="7540200" y="4999680"/>
                <a:ext cx="774360" cy="98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Freeform 12"/>
            <p:cNvGrpSpPr/>
            <p:nvPr/>
          </p:nvGrpSpPr>
          <p:grpSpPr>
            <a:xfrm>
              <a:off x="7630920" y="5433480"/>
              <a:ext cx="1184040" cy="1050840"/>
              <a:chOff x="7630920" y="5433480"/>
              <a:chExt cx="1184040" cy="1050840"/>
            </a:xfrm>
          </p:grpSpPr>
          <p:pic>
            <p:nvPicPr>
              <p:cNvPr id="52" name="Freeform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7895520" y="5646960"/>
                <a:ext cx="730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17363400">
                <a:off x="7839360" y="5465880"/>
                <a:ext cx="767160" cy="98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Freeform 13"/>
            <p:cNvGrpSpPr/>
            <p:nvPr/>
          </p:nvGrpSpPr>
          <p:grpSpPr>
            <a:xfrm>
              <a:off x="7166160" y="6202440"/>
              <a:ext cx="1177200" cy="1048320"/>
              <a:chOff x="7166160" y="6202440"/>
              <a:chExt cx="1177200" cy="1048320"/>
            </a:xfrm>
          </p:grpSpPr>
          <p:pic>
            <p:nvPicPr>
              <p:cNvPr id="55" name="Freeform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7431840" y="6413760"/>
                <a:ext cx="71964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17363400">
                <a:off x="7371000" y="6237360"/>
                <a:ext cx="767160" cy="9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Freeform 14"/>
            <p:cNvGrpSpPr/>
            <p:nvPr/>
          </p:nvGrpSpPr>
          <p:grpSpPr>
            <a:xfrm>
              <a:off x="8095680" y="5910480"/>
              <a:ext cx="1184040" cy="1050840"/>
              <a:chOff x="8095680" y="5910480"/>
              <a:chExt cx="1184040" cy="1050840"/>
            </a:xfrm>
          </p:grpSpPr>
          <p:pic>
            <p:nvPicPr>
              <p:cNvPr id="58" name="Freeform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8361720" y="6123600"/>
                <a:ext cx="730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17363400">
                <a:off x="8304120" y="5942880"/>
                <a:ext cx="767160" cy="98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52932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264360"/>
            <a:ext cx="28954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D83E-EB4C-49A7-B87A-E02712F20C45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pic>
        <p:nvPicPr>
          <p:cNvPr id="102" name="Freeform 8" descr=""/>
          <p:cNvPicPr/>
          <p:nvPr/>
        </p:nvPicPr>
        <p:blipFill>
          <a:blip r:embed="rId4"/>
          <a:stretch/>
        </p:blipFill>
        <p:spPr>
          <a:xfrm>
            <a:off x="6765840" y="658800"/>
            <a:ext cx="1738440" cy="87296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526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456840" y="6261120"/>
            <a:ext cx="28954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F286-B172-413A-B7DE-7CA78AB5F49B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pic>
        <p:nvPicPr>
          <p:cNvPr id="145" name="Freeform 8" descr=""/>
          <p:cNvPicPr/>
          <p:nvPr/>
        </p:nvPicPr>
        <p:blipFill>
          <a:blip r:embed="rId4"/>
          <a:stretch/>
        </p:blipFill>
        <p:spPr>
          <a:xfrm>
            <a:off x="1689120" y="2335320"/>
            <a:ext cx="3174840" cy="218880"/>
          </a:xfrm>
          <a:prstGeom prst="rect">
            <a:avLst/>
          </a:prstGeom>
          <a:ln w="0">
            <a:noFill/>
          </a:ln>
        </p:spPr>
      </p:pic>
      <p:pic>
        <p:nvPicPr>
          <p:cNvPr id="146" name="Freeform 9" descr=""/>
          <p:cNvPicPr/>
          <p:nvPr/>
        </p:nvPicPr>
        <p:blipFill>
          <a:blip r:embed="rId5"/>
          <a:stretch/>
        </p:blipFill>
        <p:spPr>
          <a:xfrm>
            <a:off x="4913280" y="2335320"/>
            <a:ext cx="3170160" cy="2188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86D9-1743-4AB2-9A2E-54C93595A35C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8"/>
          <p:cNvGrpSpPr/>
          <p:nvPr/>
        </p:nvGrpSpPr>
        <p:grpSpPr>
          <a:xfrm>
            <a:off x="7234200" y="5165280"/>
            <a:ext cx="2046960" cy="1827000"/>
            <a:chOff x="7234200" y="5165280"/>
            <a:chExt cx="2046960" cy="1827000"/>
          </a:xfrm>
        </p:grpSpPr>
        <p:grpSp>
          <p:nvGrpSpPr>
            <p:cNvPr id="190" name="Freeform 9"/>
            <p:cNvGrpSpPr/>
            <p:nvPr/>
          </p:nvGrpSpPr>
          <p:grpSpPr>
            <a:xfrm>
              <a:off x="7234200" y="5892480"/>
              <a:ext cx="1231200" cy="1099800"/>
              <a:chOff x="7234200" y="5892480"/>
              <a:chExt cx="1231200" cy="1099800"/>
            </a:xfrm>
          </p:grpSpPr>
          <p:pic>
            <p:nvPicPr>
              <p:cNvPr id="191" name="Freeform 9" descr=""/>
              <p:cNvPicPr/>
              <p:nvPr/>
            </p:nvPicPr>
            <p:blipFill>
              <a:blip r:embed="rId4"/>
              <a:stretch/>
            </p:blipFill>
            <p:spPr>
              <a:xfrm>
                <a:off x="7512120" y="6110640"/>
                <a:ext cx="756360" cy="6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 rot="17363400">
                <a:off x="7446240" y="5931360"/>
                <a:ext cx="8064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Freeform 10"/>
            <p:cNvGrpSpPr/>
            <p:nvPr/>
          </p:nvGrpSpPr>
          <p:grpSpPr>
            <a:xfrm>
              <a:off x="7744680" y="5165280"/>
              <a:ext cx="1231200" cy="1099800"/>
              <a:chOff x="7744680" y="5165280"/>
              <a:chExt cx="1231200" cy="1099800"/>
            </a:xfrm>
          </p:grpSpPr>
          <p:pic>
            <p:nvPicPr>
              <p:cNvPr id="194" name="Freeform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8019000" y="5384880"/>
                <a:ext cx="756360" cy="6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 rot="17363400">
                <a:off x="7956720" y="5204160"/>
                <a:ext cx="8064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Freeform 11"/>
            <p:cNvGrpSpPr/>
            <p:nvPr/>
          </p:nvGrpSpPr>
          <p:grpSpPr>
            <a:xfrm>
              <a:off x="8052480" y="5654520"/>
              <a:ext cx="1228680" cy="1092960"/>
              <a:chOff x="8052480" y="5654520"/>
              <a:chExt cx="1228680" cy="1092960"/>
            </a:xfrm>
          </p:grpSpPr>
          <p:pic>
            <p:nvPicPr>
              <p:cNvPr id="197" name="Freeform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8326440" y="5876640"/>
                <a:ext cx="756360" cy="59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 rot="17363400">
                <a:off x="8267040" y="5690160"/>
                <a:ext cx="7992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6805-1801-4693-A5DE-A200E67BA9F1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8"/>
          <p:cNvGrpSpPr/>
          <p:nvPr/>
        </p:nvGrpSpPr>
        <p:grpSpPr>
          <a:xfrm>
            <a:off x="7234200" y="5165280"/>
            <a:ext cx="2046960" cy="1827000"/>
            <a:chOff x="7234200" y="5165280"/>
            <a:chExt cx="2046960" cy="1827000"/>
          </a:xfrm>
        </p:grpSpPr>
        <p:grpSp>
          <p:nvGrpSpPr>
            <p:cNvPr id="242" name="Freeform 9"/>
            <p:cNvGrpSpPr/>
            <p:nvPr/>
          </p:nvGrpSpPr>
          <p:grpSpPr>
            <a:xfrm>
              <a:off x="7234200" y="5892480"/>
              <a:ext cx="1231200" cy="1099800"/>
              <a:chOff x="7234200" y="5892480"/>
              <a:chExt cx="1231200" cy="1099800"/>
            </a:xfrm>
          </p:grpSpPr>
          <p:pic>
            <p:nvPicPr>
              <p:cNvPr id="243" name="Freeform 9" descr=""/>
              <p:cNvPicPr/>
              <p:nvPr/>
            </p:nvPicPr>
            <p:blipFill>
              <a:blip r:embed="rId4"/>
              <a:stretch/>
            </p:blipFill>
            <p:spPr>
              <a:xfrm>
                <a:off x="7512120" y="6110640"/>
                <a:ext cx="756360" cy="6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 rot="17363400">
                <a:off x="7446240" y="5931360"/>
                <a:ext cx="8064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Freeform 10"/>
            <p:cNvGrpSpPr/>
            <p:nvPr/>
          </p:nvGrpSpPr>
          <p:grpSpPr>
            <a:xfrm>
              <a:off x="7744680" y="5165280"/>
              <a:ext cx="1231200" cy="1099800"/>
              <a:chOff x="7744680" y="5165280"/>
              <a:chExt cx="1231200" cy="1099800"/>
            </a:xfrm>
          </p:grpSpPr>
          <p:pic>
            <p:nvPicPr>
              <p:cNvPr id="246" name="Freeform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8019000" y="5384880"/>
                <a:ext cx="756360" cy="6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17363400">
                <a:off x="7956720" y="5204160"/>
                <a:ext cx="8064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Freeform 11"/>
            <p:cNvGrpSpPr/>
            <p:nvPr/>
          </p:nvGrpSpPr>
          <p:grpSpPr>
            <a:xfrm>
              <a:off x="8052480" y="5654520"/>
              <a:ext cx="1228680" cy="1092960"/>
              <a:chOff x="8052480" y="5654520"/>
              <a:chExt cx="1228680" cy="109296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8326440" y="5876640"/>
                <a:ext cx="756360" cy="59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17363400">
                <a:off x="8267040" y="5690160"/>
                <a:ext cx="7992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9224-EEF4-4F1E-8F49-33129C436F45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pic>
        <p:nvPicPr>
          <p:cNvPr id="293" name="Freeform 8" descr=""/>
          <p:cNvPicPr/>
          <p:nvPr/>
        </p:nvPicPr>
        <p:blipFill>
          <a:blip r:embed="rId4"/>
          <a:stretch/>
        </p:blipFill>
        <p:spPr>
          <a:xfrm>
            <a:off x="4627440" y="469800"/>
            <a:ext cx="4205520" cy="58388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A24C-9E1D-4495-8551-560AE1C59B94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969840" y="73080"/>
            <a:ext cx="7058160" cy="1384200"/>
          </a:xfrm>
          <a:prstGeom prst="rect">
            <a:avLst/>
          </a:prstGeom>
          <a:ln w="0">
            <a:noFill/>
          </a:ln>
        </p:spPr>
      </p:pic>
      <p:pic>
        <p:nvPicPr>
          <p:cNvPr id="343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083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61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7485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1000080" y="73080"/>
            <a:ext cx="7027920" cy="1384200"/>
          </a:xfrm>
          <a:prstGeom prst="rect">
            <a:avLst/>
          </a:prstGeom>
          <a:ln w="0">
            <a:noFill/>
          </a:ln>
        </p:spPr>
      </p:pic>
      <p:pic>
        <p:nvPicPr>
          <p:cNvPr id="363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7485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65" name="Rectangle 3" descr=""/>
          <p:cNvPicPr/>
          <p:nvPr/>
        </p:nvPicPr>
        <p:blipFill>
          <a:blip r:embed="rId2"/>
          <a:stretch/>
        </p:blipFill>
        <p:spPr>
          <a:xfrm>
            <a:off x="1908000" y="1646280"/>
            <a:ext cx="69501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969840" y="73080"/>
            <a:ext cx="7058160" cy="1384200"/>
          </a:xfrm>
          <a:prstGeom prst="rect">
            <a:avLst/>
          </a:prstGeom>
          <a:ln w="0">
            <a:noFill/>
          </a:ln>
        </p:spPr>
      </p:pic>
      <p:pic>
        <p:nvPicPr>
          <p:cNvPr id="345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083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969840" y="73080"/>
            <a:ext cx="7094520" cy="1384200"/>
          </a:xfrm>
          <a:prstGeom prst="rect">
            <a:avLst/>
          </a:prstGeom>
          <a:ln w="0">
            <a:noFill/>
          </a:ln>
        </p:spPr>
      </p:pic>
      <p:pic>
        <p:nvPicPr>
          <p:cNvPr id="347" name="Rectangle 3" descr=""/>
          <p:cNvPicPr/>
          <p:nvPr/>
        </p:nvPicPr>
        <p:blipFill>
          <a:blip r:embed="rId2"/>
          <a:stretch/>
        </p:blipFill>
        <p:spPr>
          <a:xfrm>
            <a:off x="1908000" y="1646280"/>
            <a:ext cx="678528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49" name="Rectangle 3" descr=""/>
          <p:cNvPicPr/>
          <p:nvPr/>
        </p:nvPicPr>
        <p:blipFill>
          <a:blip r:embed="rId2"/>
          <a:stretch/>
        </p:blipFill>
        <p:spPr>
          <a:xfrm>
            <a:off x="1944720" y="1676520"/>
            <a:ext cx="687060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51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083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53" name="Rectangle 3" descr=""/>
          <p:cNvPicPr/>
          <p:nvPr/>
        </p:nvPicPr>
        <p:blipFill>
          <a:blip r:embed="rId2"/>
          <a:stretch/>
        </p:blipFill>
        <p:spPr>
          <a:xfrm>
            <a:off x="1908000" y="1603440"/>
            <a:ext cx="686448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969840" y="73080"/>
            <a:ext cx="7058160" cy="1384200"/>
          </a:xfrm>
          <a:prstGeom prst="rect">
            <a:avLst/>
          </a:prstGeom>
          <a:ln w="0">
            <a:noFill/>
          </a:ln>
        </p:spPr>
      </p:pic>
      <p:pic>
        <p:nvPicPr>
          <p:cNvPr id="355" name="Rectangle 3" descr=""/>
          <p:cNvPicPr/>
          <p:nvPr/>
        </p:nvPicPr>
        <p:blipFill>
          <a:blip r:embed="rId2"/>
          <a:stretch/>
        </p:blipFill>
        <p:spPr>
          <a:xfrm>
            <a:off x="1944720" y="1676520"/>
            <a:ext cx="683892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57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67548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59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083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6:27:01Z</dcterms:created>
  <dc:creator>Mr. Szott</dc:creator>
  <dc:description/>
  <dc:language>en-US</dc:language>
  <cp:lastModifiedBy>Gottner-Grant, Deborah</cp:lastModifiedBy>
  <dcterms:modified xsi:type="dcterms:W3CDTF">2010-01-08T18:04:40Z</dcterms:modified>
  <cp:revision>34</cp:revision>
  <dc:subject/>
  <dc:title>Theme</dc:title>
</cp:coreProperties>
</file>