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8A49-747C-43A8-A23E-2BACAC7DA64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 other possibilities, such as the ways in which families can destroy rather than prese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7876-7AE5-4A4B-9E51-017FCF64B25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90B-047A-4BEC-B741-8D40E290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070-4695-4AC3-8C00-F72F269F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BF9-FF24-4C90-9E9A-20B7F60C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5BA-95CA-423C-886F-05DB09FD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ECAE-E06D-4FBD-BFD3-27C62553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1793-E689-45F4-B305-B498E1C1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5E4F-1986-4AE1-85F8-A58D4230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55A2-B442-4A94-9E29-42D0B12B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4864-11BD-4F17-B8D6-C1E92298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44B6-93D5-4E46-9AF2-EFE84282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445D-2877-4554-85A7-EECB9FE0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883-08BF-4C85-B63E-6D7E018A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F36A-9379-48E0-A283-68A5F218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75ED-D9D2-4CEF-A7BF-57B156E8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DD56-5C20-4BB5-BC06-EA1A77D1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C07A-1F17-4D7B-B728-708D400C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91D4-9011-4CC3-BF33-2DCA1A91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53525-BC21-4E72-936D-76C7AB79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6C4B3-E565-4075-9046-3B2A28AB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228D2-3277-4C54-9425-975FBFEC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83AFA-B311-444E-8C91-399C7F92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2CB8A-6862-416F-B012-7317F308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DCE-A6D2-42EF-A9CF-47715106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30EB-D891-4576-8604-918FA0DD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1FA91-062B-4C42-A2BD-F955AC34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79B6-556D-4383-A13F-47C5EF81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2756B-C572-4B13-86F2-950ACB7A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3A50-9A22-4AC2-8703-A29034B9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B305-8AD0-4C3F-B5AE-0C5E16C4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00FC-85AE-4960-A152-4FF0779A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5A95B-9183-4004-A467-F9B0DD14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C690F-8BE6-4412-BB11-C008F8A5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718D5-7800-4E36-906B-DF0A467E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8F8-2066-4BD0-A8A8-59C0AFCD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1A036-C05D-4A5D-BD47-7A5053C5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017CE-06D3-4BF8-AF48-0BDA9BFB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9C013-C48E-40F0-8D51-FDE10802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621F6-42CF-4E7C-AE40-D42E7AD4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4EEDD-71FA-443A-A844-2F78720E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D1225-ADB0-46F4-829E-B6375A3E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6053C-41CB-4827-8D44-AC2751C5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41891-907E-4E8C-8062-43143F69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6B4C8-CB25-479F-B432-27864FE3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72434-5EC6-48EB-9C95-A76197FA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923-896A-4F29-B32B-DEEB61CE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01505-C2ED-46A4-9D44-C5299A35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82F39-D3FF-4FE1-929C-0AF78CDD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25F13-40B9-42F1-ADBA-73D34F37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11799-18C0-4D4C-8E1A-270CCB0B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E9F37-4F65-4244-A0DB-9D5F8AED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0F556-E620-45F7-8D70-043F47DE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8BC49-8AA6-4CA1-9B22-88EBF1A3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DF472-75FA-4A77-81C4-27E2FBB1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FAEA1-71FF-47EB-A66C-6D91DBAA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FF7ED-D35E-4D39-903E-E22FEFC7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495-F590-4926-BC7C-9B862EA0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52137-4B45-47FD-8974-0EF14569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76FE4-7FAF-4321-9BD2-A59E6063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4C2B4-DA1C-4C52-A165-CA60D27F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9F47D-A18B-4470-928F-2FC10940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F933A-62B7-4916-8F15-024F3173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E0153-BC71-409F-9B4B-CADCFFC3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26E89-B57F-4247-AAA7-DDB3E7B7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F0CA0-B7A4-4914-A497-38785689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401AD-52D1-49DB-8671-933DEA02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08F17-4B63-4E5A-B952-107BC56E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BB5-F026-4116-B0B4-8D34D8B4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F0736-8264-4310-9E02-685533E2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072E1-337A-4F54-8F2A-92B84316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2893E-A7D6-4253-8FAB-52EB020F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0C1E1-C377-4CED-9B0D-4569CCE2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6B840-25C0-4DED-ACE9-E5DAD309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5CACF-F4D2-421B-95B6-F045E7F3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2433B-3743-44AC-96FD-7BE09453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735F4-99D1-489C-97D9-FB2EC1F8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22833-471A-4CCF-9F3B-99DB545E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3E590-112E-434C-9F39-531A4DB3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405-67FC-4829-B686-07372190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E8B84-850E-4192-9133-1A3B8C23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E661C-93DE-44D6-BB2C-F2F3A7B1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409A5-61F0-4EE8-8AC0-829723F6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3DB55-3E57-4263-AF46-49A2EEBB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8144F-A48D-499D-A4B8-B90916AF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F7E-383E-4C57-9D93-D1C63E5B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D1DE-99F2-4D49-961E-F98B5AEC533C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43" name="Freeform 8" descr=""/>
          <p:cNvPicPr/>
          <p:nvPr/>
        </p:nvPicPr>
        <p:blipFill>
          <a:blip r:embed="rId4"/>
          <a:stretch/>
        </p:blipFill>
        <p:spPr>
          <a:xfrm>
            <a:off x="109440" y="378000"/>
            <a:ext cx="2841840" cy="86626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2"/>
          <p:cNvGrpSpPr/>
          <p:nvPr/>
        </p:nvGrpSpPr>
        <p:grpSpPr>
          <a:xfrm>
            <a:off x="6842520" y="4963680"/>
            <a:ext cx="2437200" cy="2287080"/>
            <a:chOff x="6842520" y="4963680"/>
            <a:chExt cx="2437200" cy="2287080"/>
          </a:xfrm>
        </p:grpSpPr>
        <p:grpSp>
          <p:nvGrpSpPr>
            <p:cNvPr id="45" name="Freeform 10"/>
            <p:cNvGrpSpPr/>
            <p:nvPr/>
          </p:nvGrpSpPr>
          <p:grpSpPr>
            <a:xfrm>
              <a:off x="6842520" y="5670000"/>
              <a:ext cx="1177200" cy="1048320"/>
              <a:chOff x="6842520" y="5670000"/>
              <a:chExt cx="1177200" cy="1048320"/>
            </a:xfrm>
          </p:grpSpPr>
          <p:pic>
            <p:nvPicPr>
              <p:cNvPr id="46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7108920" y="5883480"/>
                <a:ext cx="7196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rot="17363400">
                <a:off x="7047360" y="5704920"/>
                <a:ext cx="767160" cy="9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Freeform 11"/>
            <p:cNvGrpSpPr/>
            <p:nvPr/>
          </p:nvGrpSpPr>
          <p:grpSpPr>
            <a:xfrm>
              <a:off x="7334280" y="4963680"/>
              <a:ext cx="1186560" cy="1057680"/>
              <a:chOff x="7334280" y="4963680"/>
              <a:chExt cx="1186560" cy="1057680"/>
            </a:xfrm>
          </p:grpSpPr>
          <p:pic>
            <p:nvPicPr>
              <p:cNvPr id="49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7598880" y="5175000"/>
                <a:ext cx="73008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 rot="17363400">
                <a:off x="7540200" y="4999680"/>
                <a:ext cx="7743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Freeform 12"/>
            <p:cNvGrpSpPr/>
            <p:nvPr/>
          </p:nvGrpSpPr>
          <p:grpSpPr>
            <a:xfrm>
              <a:off x="7630920" y="5433480"/>
              <a:ext cx="1184040" cy="1050840"/>
              <a:chOff x="7630920" y="5433480"/>
              <a:chExt cx="1184040" cy="1050840"/>
            </a:xfrm>
          </p:grpSpPr>
          <p:pic>
            <p:nvPicPr>
              <p:cNvPr id="52" name="Freeform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7895520" y="5646960"/>
                <a:ext cx="730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17363400">
                <a:off x="7839360" y="5465880"/>
                <a:ext cx="7671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Freeform 13"/>
            <p:cNvGrpSpPr/>
            <p:nvPr/>
          </p:nvGrpSpPr>
          <p:grpSpPr>
            <a:xfrm>
              <a:off x="7166160" y="6202440"/>
              <a:ext cx="1177200" cy="1048320"/>
              <a:chOff x="7166160" y="6202440"/>
              <a:chExt cx="1177200" cy="1048320"/>
            </a:xfrm>
          </p:grpSpPr>
          <p:pic>
            <p:nvPicPr>
              <p:cNvPr id="55" name="Freeform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7431840" y="6413760"/>
                <a:ext cx="7196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17363400">
                <a:off x="7371000" y="6237360"/>
                <a:ext cx="767160" cy="9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Freeform 14"/>
            <p:cNvGrpSpPr/>
            <p:nvPr/>
          </p:nvGrpSpPr>
          <p:grpSpPr>
            <a:xfrm>
              <a:off x="8095680" y="5910480"/>
              <a:ext cx="1184040" cy="1050840"/>
              <a:chOff x="8095680" y="5910480"/>
              <a:chExt cx="1184040" cy="1050840"/>
            </a:xfrm>
          </p:grpSpPr>
          <p:pic>
            <p:nvPicPr>
              <p:cNvPr id="58" name="Freeform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8361720" y="6123600"/>
                <a:ext cx="730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17363400">
                <a:off x="8304120" y="5942880"/>
                <a:ext cx="7671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52932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264360"/>
            <a:ext cx="28954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2017-FA58-4FC5-ADE6-D5808CA8BFB8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102" name="Freeform 8" descr=""/>
          <p:cNvPicPr/>
          <p:nvPr/>
        </p:nvPicPr>
        <p:blipFill>
          <a:blip r:embed="rId4"/>
          <a:stretch/>
        </p:blipFill>
        <p:spPr>
          <a:xfrm>
            <a:off x="6765840" y="658800"/>
            <a:ext cx="1738440" cy="8729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526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456840" y="6261120"/>
            <a:ext cx="28954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0786-5D2C-496A-8C20-C3C0658C60E6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145" name="Freeform 8" descr=""/>
          <p:cNvPicPr/>
          <p:nvPr/>
        </p:nvPicPr>
        <p:blipFill>
          <a:blip r:embed="rId4"/>
          <a:stretch/>
        </p:blipFill>
        <p:spPr>
          <a:xfrm>
            <a:off x="1689120" y="2335320"/>
            <a:ext cx="3174840" cy="218880"/>
          </a:xfrm>
          <a:prstGeom prst="rect">
            <a:avLst/>
          </a:prstGeom>
          <a:ln w="0">
            <a:noFill/>
          </a:ln>
        </p:spPr>
      </p:pic>
      <p:pic>
        <p:nvPicPr>
          <p:cNvPr id="146" name="Freeform 9" descr=""/>
          <p:cNvPicPr/>
          <p:nvPr/>
        </p:nvPicPr>
        <p:blipFill>
          <a:blip r:embed="rId5"/>
          <a:stretch/>
        </p:blipFill>
        <p:spPr>
          <a:xfrm>
            <a:off x="4913280" y="2335320"/>
            <a:ext cx="3170160" cy="2188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0929-7E2C-431E-9B37-67FED984024B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8"/>
          <p:cNvGrpSpPr/>
          <p:nvPr/>
        </p:nvGrpSpPr>
        <p:grpSpPr>
          <a:xfrm>
            <a:off x="7234200" y="5165280"/>
            <a:ext cx="2046960" cy="1827000"/>
            <a:chOff x="7234200" y="5165280"/>
            <a:chExt cx="2046960" cy="1827000"/>
          </a:xfrm>
        </p:grpSpPr>
        <p:grpSp>
          <p:nvGrpSpPr>
            <p:cNvPr id="190" name="Freeform 9"/>
            <p:cNvGrpSpPr/>
            <p:nvPr/>
          </p:nvGrpSpPr>
          <p:grpSpPr>
            <a:xfrm>
              <a:off x="7234200" y="5892480"/>
              <a:ext cx="1231200" cy="1099800"/>
              <a:chOff x="7234200" y="5892480"/>
              <a:chExt cx="1231200" cy="1099800"/>
            </a:xfrm>
          </p:grpSpPr>
          <p:pic>
            <p:nvPicPr>
              <p:cNvPr id="191" name="Freeform 9" descr=""/>
              <p:cNvPicPr/>
              <p:nvPr/>
            </p:nvPicPr>
            <p:blipFill>
              <a:blip r:embed="rId4"/>
              <a:stretch/>
            </p:blipFill>
            <p:spPr>
              <a:xfrm>
                <a:off x="7512120" y="611064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 rot="17363400">
                <a:off x="7446240" y="59313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Freeform 10"/>
            <p:cNvGrpSpPr/>
            <p:nvPr/>
          </p:nvGrpSpPr>
          <p:grpSpPr>
            <a:xfrm>
              <a:off x="7744680" y="5165280"/>
              <a:ext cx="1231200" cy="1099800"/>
              <a:chOff x="7744680" y="5165280"/>
              <a:chExt cx="1231200" cy="1099800"/>
            </a:xfrm>
          </p:grpSpPr>
          <p:pic>
            <p:nvPicPr>
              <p:cNvPr id="194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8019000" y="538488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 rot="17363400">
                <a:off x="7956720" y="52041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Freeform 11"/>
            <p:cNvGrpSpPr/>
            <p:nvPr/>
          </p:nvGrpSpPr>
          <p:grpSpPr>
            <a:xfrm>
              <a:off x="8052480" y="5654520"/>
              <a:ext cx="1228680" cy="1092960"/>
              <a:chOff x="8052480" y="5654520"/>
              <a:chExt cx="1228680" cy="1092960"/>
            </a:xfrm>
          </p:grpSpPr>
          <p:pic>
            <p:nvPicPr>
              <p:cNvPr id="197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8326440" y="5876640"/>
                <a:ext cx="75636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 rot="17363400">
                <a:off x="8267040" y="5690160"/>
                <a:ext cx="7992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49EE-F339-4848-92C0-FACEF2B0B3AC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8"/>
          <p:cNvGrpSpPr/>
          <p:nvPr/>
        </p:nvGrpSpPr>
        <p:grpSpPr>
          <a:xfrm>
            <a:off x="7234200" y="5165280"/>
            <a:ext cx="2046960" cy="1827000"/>
            <a:chOff x="7234200" y="5165280"/>
            <a:chExt cx="2046960" cy="1827000"/>
          </a:xfrm>
        </p:grpSpPr>
        <p:grpSp>
          <p:nvGrpSpPr>
            <p:cNvPr id="242" name="Freeform 9"/>
            <p:cNvGrpSpPr/>
            <p:nvPr/>
          </p:nvGrpSpPr>
          <p:grpSpPr>
            <a:xfrm>
              <a:off x="7234200" y="5892480"/>
              <a:ext cx="1231200" cy="1099800"/>
              <a:chOff x="7234200" y="5892480"/>
              <a:chExt cx="1231200" cy="1099800"/>
            </a:xfrm>
          </p:grpSpPr>
          <p:pic>
            <p:nvPicPr>
              <p:cNvPr id="243" name="Freeform 9" descr=""/>
              <p:cNvPicPr/>
              <p:nvPr/>
            </p:nvPicPr>
            <p:blipFill>
              <a:blip r:embed="rId4"/>
              <a:stretch/>
            </p:blipFill>
            <p:spPr>
              <a:xfrm>
                <a:off x="7512120" y="611064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 rot="17363400">
                <a:off x="7446240" y="59313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Freeform 10"/>
            <p:cNvGrpSpPr/>
            <p:nvPr/>
          </p:nvGrpSpPr>
          <p:grpSpPr>
            <a:xfrm>
              <a:off x="7744680" y="5165280"/>
              <a:ext cx="1231200" cy="1099800"/>
              <a:chOff x="7744680" y="5165280"/>
              <a:chExt cx="1231200" cy="1099800"/>
            </a:xfrm>
          </p:grpSpPr>
          <p:pic>
            <p:nvPicPr>
              <p:cNvPr id="246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8019000" y="538488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17363400">
                <a:off x="7956720" y="52041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1"/>
            <p:cNvGrpSpPr/>
            <p:nvPr/>
          </p:nvGrpSpPr>
          <p:grpSpPr>
            <a:xfrm>
              <a:off x="8052480" y="5654520"/>
              <a:ext cx="1228680" cy="1092960"/>
              <a:chOff x="8052480" y="5654520"/>
              <a:chExt cx="1228680" cy="109296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8326440" y="5876640"/>
                <a:ext cx="75636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17363400">
                <a:off x="8267040" y="5690160"/>
                <a:ext cx="7992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B00C-A0E5-4EEB-9B7B-87ECDB315ACA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293" name="Freeform 8" descr=""/>
          <p:cNvPicPr/>
          <p:nvPr/>
        </p:nvPicPr>
        <p:blipFill>
          <a:blip r:embed="rId4"/>
          <a:stretch/>
        </p:blipFill>
        <p:spPr>
          <a:xfrm>
            <a:off x="4627440" y="469800"/>
            <a:ext cx="4205520" cy="58388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7609-1D70-434D-A492-A665FED3C408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61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7485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1000080" y="73080"/>
            <a:ext cx="7027920" cy="1384200"/>
          </a:xfrm>
          <a:prstGeom prst="rect">
            <a:avLst/>
          </a:prstGeom>
          <a:ln w="0">
            <a:noFill/>
          </a:ln>
        </p:spPr>
      </p:pic>
      <p:pic>
        <p:nvPicPr>
          <p:cNvPr id="363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7485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65" name="Rectangle 3" descr=""/>
          <p:cNvPicPr/>
          <p:nvPr/>
        </p:nvPicPr>
        <p:blipFill>
          <a:blip r:embed="rId2"/>
          <a:stretch/>
        </p:blipFill>
        <p:spPr>
          <a:xfrm>
            <a:off x="1908000" y="1646280"/>
            <a:ext cx="69501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45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94520" cy="1384200"/>
          </a:xfrm>
          <a:prstGeom prst="rect">
            <a:avLst/>
          </a:prstGeom>
          <a:ln w="0">
            <a:noFill/>
          </a:ln>
        </p:spPr>
      </p:pic>
      <p:pic>
        <p:nvPicPr>
          <p:cNvPr id="347" name="Rectangle 3" descr=""/>
          <p:cNvPicPr/>
          <p:nvPr/>
        </p:nvPicPr>
        <p:blipFill>
          <a:blip r:embed="rId2"/>
          <a:stretch/>
        </p:blipFill>
        <p:spPr>
          <a:xfrm>
            <a:off x="1908000" y="1646280"/>
            <a:ext cx="67852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49" name="Rectangle 3" descr=""/>
          <p:cNvPicPr/>
          <p:nvPr/>
        </p:nvPicPr>
        <p:blipFill>
          <a:blip r:embed="rId2"/>
          <a:stretch/>
        </p:blipFill>
        <p:spPr>
          <a:xfrm>
            <a:off x="1944720" y="1676520"/>
            <a:ext cx="687060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3" descr=""/>
          <p:cNvPicPr/>
          <p:nvPr/>
        </p:nvPicPr>
        <p:blipFill>
          <a:blip r:embed="rId2"/>
          <a:stretch/>
        </p:blipFill>
        <p:spPr>
          <a:xfrm>
            <a:off x="1908000" y="1603440"/>
            <a:ext cx="68644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55" name="Rectangle 3" descr=""/>
          <p:cNvPicPr/>
          <p:nvPr/>
        </p:nvPicPr>
        <p:blipFill>
          <a:blip r:embed="rId2"/>
          <a:stretch/>
        </p:blipFill>
        <p:spPr>
          <a:xfrm>
            <a:off x="1944720" y="1676520"/>
            <a:ext cx="68389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7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6754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9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6:27:01Z</dcterms:created>
  <dc:creator>Mr. Szott</dc:creator>
  <dc:description/>
  <dc:language>en-US</dc:language>
  <cp:lastModifiedBy>Gottner-Grant, Deborah</cp:lastModifiedBy>
  <dcterms:modified xsi:type="dcterms:W3CDTF">2010-01-08T18:04:40Z</dcterms:modified>
  <cp:revision>34</cp:revision>
  <dc:subject/>
  <dc:title>Theme</dc:title>
</cp:coreProperties>
</file>