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31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BBBFB-6C20-4F04-9EAA-E58468251846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ore other possibilities, such as the ways in which families can destroy rather than preser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FAB8D-3613-4248-AAF8-C894DA5E0F28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AD13-849F-43C3-94FC-B21DCF320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60422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981080" y="4037040"/>
            <a:ext cx="60422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A761-1F66-4406-AD73-2BB469F32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7744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C5A2-4D35-416A-ACFC-A48A738EA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024080" y="175212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67440" y="175212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981080" y="403704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024080" y="403704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67440" y="403704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5A35-9F26-4816-9BE7-C9E8B1D4C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3D0BF-9622-4ED6-81CC-4B12ADC1B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981080" y="1752120"/>
            <a:ext cx="60422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9DBB4-27EC-4713-918A-128ED37B9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60422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1EC25-0321-4DA0-AE23-DDAE96319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E6DCF-8198-4869-9A2B-C3C605508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5FDB4-5388-4D9C-BCED-AF157B1B5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19320" y="76320"/>
            <a:ext cx="68040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B12F7-9810-4C1D-A75F-63A5B2EB7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36C0C-C125-4D1F-A20C-4815587D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981080" y="1752120"/>
            <a:ext cx="60422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4D01-6E60-4FE8-8EA3-E4BE25CF4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7744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449EA-CDED-4A82-BAB4-E8AD7E1C6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60422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B4B2F-A9FA-448D-9FDC-A198C677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60422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981080" y="4037040"/>
            <a:ext cx="60422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FB6BF-7B6A-4DC0-B211-2B98E0F70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7744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6853D-4E97-4B14-ACE0-27566F92B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024080" y="175212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67440" y="175212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981080" y="403704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4024080" y="403704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67440" y="403704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75975-BEF5-4BEC-898D-876165327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2F400-BAFB-4D3E-8393-E651AFE8B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981080" y="1752120"/>
            <a:ext cx="60422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075A7-7FE1-41FD-9FC3-2257F965D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60422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B28FF-D1ED-430F-926A-4B6F422B7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9C4FB-D5ED-4EBF-95D5-413BB9184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EFDCF-0BC6-4005-B02A-C4E9ED5AD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60422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61D6-FF09-4A56-BE60-47FA19EA5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219320" y="76320"/>
            <a:ext cx="68040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BFDCF-6D0C-4421-9143-495BBCE11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D49F9-1F8D-4626-B16C-27F8C837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07744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5876C-3D5C-433E-B5CE-49B61A79D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60422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BA486-DB6E-48F4-A015-7454406E2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60422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1981080" y="4037040"/>
            <a:ext cx="60422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893E4-CCDF-45B9-A5AA-D736623E5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507744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38161-D0AC-4003-8BD7-5E809610E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24080" y="175212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67440" y="175212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1981080" y="403704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4024080" y="403704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67440" y="403704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4DE39-D630-49B5-AB60-D5EF02D52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F88B2-B342-42B0-869F-D706AA420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981080" y="1752120"/>
            <a:ext cx="60422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FAB61C-9D2D-43BF-B205-EF834DE22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60422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7855F-A90A-4973-A713-E2502D5D5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ED17-F812-44CB-9001-4C6427966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FDBA5-56AC-4E87-841E-BE0833EA5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AF6FC-16C0-463E-AB4A-FBF41E321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219320" y="76320"/>
            <a:ext cx="68040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D05E3-19A6-462C-9DBB-223793427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6590D-F0A8-4659-A429-8C772FA90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7744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EEE13-2EDD-4630-811E-B123F5B77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60422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669F3-DB55-4ECF-885D-BA8C62221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60422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981080" y="4037040"/>
            <a:ext cx="60422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BCDA1-F5F1-4E3D-AFB2-3F29C8F67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07744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B0E46-8311-4AA7-9FEE-3AAA42822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024080" y="175212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67440" y="175212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981080" y="403704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4024080" y="403704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67440" y="403704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1C70C-5D52-47D4-8A2A-2EF764D4B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6403E-9B22-486B-8005-D3BBF9102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A2A8-DC5D-4D94-B3ED-76514F400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1981080" y="1752120"/>
            <a:ext cx="60422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B69C1-3365-477A-BA13-441F721F3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60422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57320-4AAE-4CC6-BAAA-98C8883D9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356ADE-D8D8-47C5-87F2-E51F45CDC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D293D-5DE6-417C-8CB9-9C7684C33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1219320" y="76320"/>
            <a:ext cx="68040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10FAA-B0F9-469F-AF7F-806884C95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84ED2E-C92B-4876-A8C4-F10E2F4B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07744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6154C-5A1F-4A27-A715-0361B1B23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60422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9D525F-4505-4288-9AC3-4D2888792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60422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1981080" y="4037040"/>
            <a:ext cx="60422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D11349-1B10-452E-BA5C-907AAEE78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507744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4C0C43-3AA7-4030-895B-CE2D906B2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19320" y="76320"/>
            <a:ext cx="68040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7D9B-5C3C-4658-ABF7-DBCC907B7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024080" y="175212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67440" y="175212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1981080" y="403704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4024080" y="403704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67440" y="403704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8CDBF0-59B3-44C4-853C-3699ADC01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71722A-3D60-4984-AAA4-7C8A34FCE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981080" y="1752120"/>
            <a:ext cx="60422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E1348B-B389-4C30-89DD-047E3E43F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60422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9A7F62-0BC8-4F5C-9BE6-EA8D5792B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BAA0B7-35F8-4494-BD7E-71C5BC054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EF1F6E-ADAA-425C-85E6-203311F53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1219320" y="76320"/>
            <a:ext cx="68040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3E318F-05CA-4846-995F-E1113DA70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69C4F7-353C-4194-8930-6BC45469D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07744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E8C037-501F-4A3F-B740-31D75E88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60422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749CA2-7EBC-4C9B-A059-9C1998E50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6D1E-42C1-4E35-8872-D1ECEFC61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60422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1981080" y="4037040"/>
            <a:ext cx="60422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65E5F7-BE48-4E1E-8530-F3CBE485C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07744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D4E9D0-DCF5-4BFA-888B-37732A3B1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024080" y="175212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67440" y="175212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1981080" y="403704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4024080" y="403704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67440" y="403704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266724-2771-405B-8BDB-83E68C760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636C7A-8250-44E2-8102-0423B9EB1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981080" y="1752120"/>
            <a:ext cx="60422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466D99-9B4D-4943-8D86-691DB9868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60422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E3EDE9-5304-401F-BCE4-22395F0BE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419B30-D4AF-41F1-80A2-F6CA1D3DA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3A2817-8CEA-49FD-A9DB-943DF449B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219320" y="76320"/>
            <a:ext cx="68040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4147B4-6CBB-4CB9-B45F-DAF5FC15F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864244-2428-4B92-9B4C-6C6686734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7744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622D-D5B7-449C-B213-4171F7F05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7744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595AB2-F43C-4C8B-9B9B-55A2DDA4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60422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5B3E91-4EB2-4D59-AE6F-D1CC094D9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60422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981080" y="4037040"/>
            <a:ext cx="60422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ED5C35-92B6-4D24-8D04-05E8B3D1D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507744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90E4AC-7F80-4A0F-995B-220CE9451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024080" y="175212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67440" y="175212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981080" y="403704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4024080" y="403704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67440" y="403704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5124B5-DAEA-497F-8A7E-B2DA4BFD1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60422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D81C-9A6E-4C72-A61F-90BA0F3F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81080" y="1752120"/>
            <a:ext cx="60422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577800" indent="-228600"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806400" indent="-228600">
              <a:spcBef>
                <a:spcPts val="2001"/>
              </a:spcBef>
              <a:buClr>
                <a:srgbClr val="a47c0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035000" indent="-228600">
              <a:spcBef>
                <a:spcPts val="2001"/>
              </a:spcBef>
              <a:buClr>
                <a:srgbClr val="63457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1263600" indent="-228600">
              <a:spcBef>
                <a:spcPts val="2001"/>
              </a:spcBef>
              <a:buClr>
                <a:srgbClr val="255775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1263600" indent="-228600"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1263600" indent="-228600"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889240" y="6499080"/>
            <a:ext cx="213372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81080" y="6499080"/>
            <a:ext cx="289584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27640" y="6208200"/>
            <a:ext cx="104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404040"/>
                </a:solidFill>
                <a:latin typeface="Showcard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A7327-F127-4470-AB64-D81ABB828AF5}" type="slidenum">
              <a:rPr b="1" lang="en-US" sz="2800" spc="-1" strike="noStrike">
                <a:solidFill>
                  <a:srgbClr val="404040"/>
                </a:solidFill>
                <a:latin typeface="Showcard Gothic"/>
              </a:rPr>
              <a:t>&lt;number&gt;</a:t>
            </a:fld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Freeform 7" descr=""/>
          <p:cNvPicPr/>
          <p:nvPr/>
        </p:nvPicPr>
        <p:blipFill>
          <a:blip r:embed="rId3"/>
          <a:stretch/>
        </p:blipFill>
        <p:spPr>
          <a:xfrm>
            <a:off x="-23760" y="-79200"/>
            <a:ext cx="1792080" cy="693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Freeform 7" descr=""/>
          <p:cNvPicPr/>
          <p:nvPr/>
        </p:nvPicPr>
        <p:blipFill>
          <a:blip r:embed="rId3"/>
          <a:stretch/>
        </p:blipFill>
        <p:spPr>
          <a:xfrm>
            <a:off x="-23760" y="-79200"/>
            <a:ext cx="1792080" cy="6937200"/>
          </a:xfrm>
          <a:prstGeom prst="rect">
            <a:avLst/>
          </a:prstGeom>
          <a:ln w="0">
            <a:noFill/>
          </a:ln>
        </p:spPr>
      </p:pic>
      <p:pic>
        <p:nvPicPr>
          <p:cNvPr id="43" name="Freeform 8" descr=""/>
          <p:cNvPicPr/>
          <p:nvPr/>
        </p:nvPicPr>
        <p:blipFill>
          <a:blip r:embed="rId4"/>
          <a:stretch/>
        </p:blipFill>
        <p:spPr>
          <a:xfrm>
            <a:off x="109440" y="378000"/>
            <a:ext cx="2841840" cy="8662680"/>
          </a:xfrm>
          <a:prstGeom prst="rect">
            <a:avLst/>
          </a:prstGeom>
          <a:ln w="0">
            <a:noFill/>
          </a:ln>
        </p:spPr>
      </p:pic>
      <p:grpSp>
        <p:nvGrpSpPr>
          <p:cNvPr id="44" name="Group 32"/>
          <p:cNvGrpSpPr/>
          <p:nvPr/>
        </p:nvGrpSpPr>
        <p:grpSpPr>
          <a:xfrm>
            <a:off x="6842520" y="4963680"/>
            <a:ext cx="2437200" cy="2287080"/>
            <a:chOff x="6842520" y="4963680"/>
            <a:chExt cx="2437200" cy="2287080"/>
          </a:xfrm>
        </p:grpSpPr>
        <p:grpSp>
          <p:nvGrpSpPr>
            <p:cNvPr id="45" name="Freeform 10"/>
            <p:cNvGrpSpPr/>
            <p:nvPr/>
          </p:nvGrpSpPr>
          <p:grpSpPr>
            <a:xfrm>
              <a:off x="6842520" y="5670000"/>
              <a:ext cx="1177200" cy="1048320"/>
              <a:chOff x="6842520" y="5670000"/>
              <a:chExt cx="1177200" cy="1048320"/>
            </a:xfrm>
          </p:grpSpPr>
          <p:pic>
            <p:nvPicPr>
              <p:cNvPr id="46" name="Freeform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7108920" y="5883480"/>
                <a:ext cx="719640" cy="56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" name=""/>
              <p:cNvSpPr/>
              <p:nvPr/>
            </p:nvSpPr>
            <p:spPr>
              <a:xfrm rot="17363400">
                <a:off x="7047360" y="5704920"/>
                <a:ext cx="767160" cy="97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" name="Freeform 11"/>
            <p:cNvGrpSpPr/>
            <p:nvPr/>
          </p:nvGrpSpPr>
          <p:grpSpPr>
            <a:xfrm>
              <a:off x="7334280" y="4963680"/>
              <a:ext cx="1186560" cy="1057680"/>
              <a:chOff x="7334280" y="4963680"/>
              <a:chExt cx="1186560" cy="1057680"/>
            </a:xfrm>
          </p:grpSpPr>
          <p:pic>
            <p:nvPicPr>
              <p:cNvPr id="49" name="Freeform 11" descr=""/>
              <p:cNvPicPr/>
              <p:nvPr/>
            </p:nvPicPr>
            <p:blipFill>
              <a:blip r:embed="rId6"/>
              <a:stretch/>
            </p:blipFill>
            <p:spPr>
              <a:xfrm>
                <a:off x="7598880" y="5175000"/>
                <a:ext cx="730080" cy="57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" name=""/>
              <p:cNvSpPr/>
              <p:nvPr/>
            </p:nvSpPr>
            <p:spPr>
              <a:xfrm rot="17363400">
                <a:off x="7540200" y="4999680"/>
                <a:ext cx="774360" cy="98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Freeform 12"/>
            <p:cNvGrpSpPr/>
            <p:nvPr/>
          </p:nvGrpSpPr>
          <p:grpSpPr>
            <a:xfrm>
              <a:off x="7630920" y="5433480"/>
              <a:ext cx="1184040" cy="1050840"/>
              <a:chOff x="7630920" y="5433480"/>
              <a:chExt cx="1184040" cy="1050840"/>
            </a:xfrm>
          </p:grpSpPr>
          <p:pic>
            <p:nvPicPr>
              <p:cNvPr id="52" name="Freeform 12" descr=""/>
              <p:cNvPicPr/>
              <p:nvPr/>
            </p:nvPicPr>
            <p:blipFill>
              <a:blip r:embed="rId7"/>
              <a:stretch/>
            </p:blipFill>
            <p:spPr>
              <a:xfrm>
                <a:off x="7895520" y="5646960"/>
                <a:ext cx="730080" cy="56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 rot="17363400">
                <a:off x="7839360" y="5465880"/>
                <a:ext cx="767160" cy="98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" name="Freeform 13"/>
            <p:cNvGrpSpPr/>
            <p:nvPr/>
          </p:nvGrpSpPr>
          <p:grpSpPr>
            <a:xfrm>
              <a:off x="7166160" y="6202440"/>
              <a:ext cx="1177200" cy="1048320"/>
              <a:chOff x="7166160" y="6202440"/>
              <a:chExt cx="1177200" cy="1048320"/>
            </a:xfrm>
          </p:grpSpPr>
          <p:pic>
            <p:nvPicPr>
              <p:cNvPr id="55" name="Freeform 13" descr=""/>
              <p:cNvPicPr/>
              <p:nvPr/>
            </p:nvPicPr>
            <p:blipFill>
              <a:blip r:embed="rId8"/>
              <a:stretch/>
            </p:blipFill>
            <p:spPr>
              <a:xfrm>
                <a:off x="7431840" y="6413760"/>
                <a:ext cx="719640" cy="56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17363400">
                <a:off x="7371000" y="6237360"/>
                <a:ext cx="767160" cy="97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" name="Freeform 14"/>
            <p:cNvGrpSpPr/>
            <p:nvPr/>
          </p:nvGrpSpPr>
          <p:grpSpPr>
            <a:xfrm>
              <a:off x="8095680" y="5910480"/>
              <a:ext cx="1184040" cy="1050840"/>
              <a:chOff x="8095680" y="5910480"/>
              <a:chExt cx="1184040" cy="1050840"/>
            </a:xfrm>
          </p:grpSpPr>
          <p:pic>
            <p:nvPicPr>
              <p:cNvPr id="58" name="Freeform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8361720" y="6123600"/>
                <a:ext cx="730080" cy="56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 rot="17363400">
                <a:off x="8304120" y="5942880"/>
                <a:ext cx="767160" cy="98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981080" y="1752120"/>
            <a:ext cx="60422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577800" indent="-228600"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806400" indent="-228600">
              <a:spcBef>
                <a:spcPts val="2001"/>
              </a:spcBef>
              <a:buClr>
                <a:srgbClr val="a47c0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035000" indent="-228600">
              <a:spcBef>
                <a:spcPts val="2001"/>
              </a:spcBef>
              <a:buClr>
                <a:srgbClr val="63457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1263600" indent="-228600">
              <a:spcBef>
                <a:spcPts val="2001"/>
              </a:spcBef>
              <a:buClr>
                <a:srgbClr val="255775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1263600" indent="-228600"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1263600" indent="-228600"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529320"/>
            <a:ext cx="213372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456840" y="6264360"/>
            <a:ext cx="289548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8027640" y="6208200"/>
            <a:ext cx="104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404040"/>
                </a:solidFill>
                <a:latin typeface="Showcard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5EB8A-D10F-453B-A0FF-421FFAA5EC25}" type="slidenum">
              <a:rPr b="1" lang="en-US" sz="2800" spc="-1" strike="noStrike">
                <a:solidFill>
                  <a:srgbClr val="404040"/>
                </a:solidFill>
                <a:latin typeface="Showcard Gothic"/>
              </a:rPr>
              <a:t>&lt;number&gt;</a:t>
            </a:fld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Freeform 7" descr=""/>
          <p:cNvPicPr/>
          <p:nvPr/>
        </p:nvPicPr>
        <p:blipFill>
          <a:blip r:embed="rId3"/>
          <a:stretch/>
        </p:blipFill>
        <p:spPr>
          <a:xfrm>
            <a:off x="-23760" y="-79200"/>
            <a:ext cx="1792080" cy="6937200"/>
          </a:xfrm>
          <a:prstGeom prst="rect">
            <a:avLst/>
          </a:prstGeom>
          <a:ln w="0">
            <a:noFill/>
          </a:ln>
        </p:spPr>
      </p:pic>
      <p:pic>
        <p:nvPicPr>
          <p:cNvPr id="102" name="Freeform 8" descr=""/>
          <p:cNvPicPr/>
          <p:nvPr/>
        </p:nvPicPr>
        <p:blipFill>
          <a:blip r:embed="rId4"/>
          <a:stretch/>
        </p:blipFill>
        <p:spPr>
          <a:xfrm>
            <a:off x="6765840" y="658800"/>
            <a:ext cx="1738440" cy="87296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1981080" y="1752120"/>
            <a:ext cx="60422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577800" indent="-228600"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806400" indent="-228600">
              <a:spcBef>
                <a:spcPts val="2001"/>
              </a:spcBef>
              <a:buClr>
                <a:srgbClr val="a47c0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035000" indent="-228600">
              <a:spcBef>
                <a:spcPts val="2001"/>
              </a:spcBef>
              <a:buClr>
                <a:srgbClr val="63457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1263600" indent="-228600">
              <a:spcBef>
                <a:spcPts val="2001"/>
              </a:spcBef>
              <a:buClr>
                <a:srgbClr val="255775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1263600" indent="-228600"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1263600" indent="-228600"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456840" y="6526080"/>
            <a:ext cx="213372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456840" y="6261120"/>
            <a:ext cx="289548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027640" y="6208200"/>
            <a:ext cx="104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404040"/>
                </a:solidFill>
                <a:latin typeface="Showcard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76A6C-25F3-408E-B77C-D4609C8B51C9}" type="slidenum">
              <a:rPr b="1" lang="en-US" sz="2800" spc="-1" strike="noStrike">
                <a:solidFill>
                  <a:srgbClr val="404040"/>
                </a:solidFill>
                <a:latin typeface="Showcard Gothic"/>
              </a:rPr>
              <a:t>&lt;number&gt;</a:t>
            </a:fld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Freeform 7" descr=""/>
          <p:cNvPicPr/>
          <p:nvPr/>
        </p:nvPicPr>
        <p:blipFill>
          <a:blip r:embed="rId3"/>
          <a:stretch/>
        </p:blipFill>
        <p:spPr>
          <a:xfrm>
            <a:off x="-23760" y="-79200"/>
            <a:ext cx="1792080" cy="6937200"/>
          </a:xfrm>
          <a:prstGeom prst="rect">
            <a:avLst/>
          </a:prstGeom>
          <a:ln w="0">
            <a:noFill/>
          </a:ln>
        </p:spPr>
      </p:pic>
      <p:pic>
        <p:nvPicPr>
          <p:cNvPr id="145" name="Freeform 8" descr=""/>
          <p:cNvPicPr/>
          <p:nvPr/>
        </p:nvPicPr>
        <p:blipFill>
          <a:blip r:embed="rId4"/>
          <a:stretch/>
        </p:blipFill>
        <p:spPr>
          <a:xfrm>
            <a:off x="1689120" y="2335320"/>
            <a:ext cx="3174840" cy="218880"/>
          </a:xfrm>
          <a:prstGeom prst="rect">
            <a:avLst/>
          </a:prstGeom>
          <a:ln w="0">
            <a:noFill/>
          </a:ln>
        </p:spPr>
      </p:pic>
      <p:pic>
        <p:nvPicPr>
          <p:cNvPr id="146" name="Freeform 9" descr=""/>
          <p:cNvPicPr/>
          <p:nvPr/>
        </p:nvPicPr>
        <p:blipFill>
          <a:blip r:embed="rId5"/>
          <a:stretch/>
        </p:blipFill>
        <p:spPr>
          <a:xfrm>
            <a:off x="4913280" y="2335320"/>
            <a:ext cx="3170160" cy="21888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981080" y="1752120"/>
            <a:ext cx="60422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577800" indent="-228600"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806400" indent="-228600">
              <a:spcBef>
                <a:spcPts val="2001"/>
              </a:spcBef>
              <a:buClr>
                <a:srgbClr val="a47c0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035000" indent="-228600">
              <a:spcBef>
                <a:spcPts val="2001"/>
              </a:spcBef>
              <a:buClr>
                <a:srgbClr val="63457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1263600" indent="-228600">
              <a:spcBef>
                <a:spcPts val="2001"/>
              </a:spcBef>
              <a:buClr>
                <a:srgbClr val="255775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1263600" indent="-228600"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1263600" indent="-228600"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5889240" y="6499080"/>
            <a:ext cx="213372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1981080" y="6499080"/>
            <a:ext cx="289584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027640" y="6208200"/>
            <a:ext cx="104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404040"/>
                </a:solidFill>
                <a:latin typeface="Showcard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37520-239E-490B-ABE9-E8454A062EC5}" type="slidenum">
              <a:rPr b="1" lang="en-US" sz="2800" spc="-1" strike="noStrike">
                <a:solidFill>
                  <a:srgbClr val="404040"/>
                </a:solidFill>
                <a:latin typeface="Showcard Gothic"/>
              </a:rPr>
              <a:t>&lt;number&gt;</a:t>
            </a:fld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Freeform 7" descr=""/>
          <p:cNvPicPr/>
          <p:nvPr/>
        </p:nvPicPr>
        <p:blipFill>
          <a:blip r:embed="rId3"/>
          <a:stretch/>
        </p:blipFill>
        <p:spPr>
          <a:xfrm>
            <a:off x="-23760" y="-79200"/>
            <a:ext cx="1792080" cy="6937200"/>
          </a:xfrm>
          <a:prstGeom prst="rect">
            <a:avLst/>
          </a:prstGeom>
          <a:ln w="0">
            <a:noFill/>
          </a:ln>
        </p:spPr>
      </p:pic>
      <p:grpSp>
        <p:nvGrpSpPr>
          <p:cNvPr id="189" name="Group 8"/>
          <p:cNvGrpSpPr/>
          <p:nvPr/>
        </p:nvGrpSpPr>
        <p:grpSpPr>
          <a:xfrm>
            <a:off x="7234200" y="5165280"/>
            <a:ext cx="2046960" cy="1827000"/>
            <a:chOff x="7234200" y="5165280"/>
            <a:chExt cx="2046960" cy="1827000"/>
          </a:xfrm>
        </p:grpSpPr>
        <p:grpSp>
          <p:nvGrpSpPr>
            <p:cNvPr id="190" name="Freeform 9"/>
            <p:cNvGrpSpPr/>
            <p:nvPr/>
          </p:nvGrpSpPr>
          <p:grpSpPr>
            <a:xfrm>
              <a:off x="7234200" y="5892480"/>
              <a:ext cx="1231200" cy="1099800"/>
              <a:chOff x="7234200" y="5892480"/>
              <a:chExt cx="1231200" cy="1099800"/>
            </a:xfrm>
          </p:grpSpPr>
          <p:pic>
            <p:nvPicPr>
              <p:cNvPr id="191" name="Freeform 9" descr=""/>
              <p:cNvPicPr/>
              <p:nvPr/>
            </p:nvPicPr>
            <p:blipFill>
              <a:blip r:embed="rId4"/>
              <a:stretch/>
            </p:blipFill>
            <p:spPr>
              <a:xfrm>
                <a:off x="7512120" y="6110640"/>
                <a:ext cx="756360" cy="600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2" name=""/>
              <p:cNvSpPr/>
              <p:nvPr/>
            </p:nvSpPr>
            <p:spPr>
              <a:xfrm rot="17363400">
                <a:off x="7446240" y="5931360"/>
                <a:ext cx="806400" cy="102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Freeform 10"/>
            <p:cNvGrpSpPr/>
            <p:nvPr/>
          </p:nvGrpSpPr>
          <p:grpSpPr>
            <a:xfrm>
              <a:off x="7744680" y="5165280"/>
              <a:ext cx="1231200" cy="1099800"/>
              <a:chOff x="7744680" y="5165280"/>
              <a:chExt cx="1231200" cy="1099800"/>
            </a:xfrm>
          </p:grpSpPr>
          <p:pic>
            <p:nvPicPr>
              <p:cNvPr id="194" name="Freeform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8019000" y="5384880"/>
                <a:ext cx="756360" cy="600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5" name=""/>
              <p:cNvSpPr/>
              <p:nvPr/>
            </p:nvSpPr>
            <p:spPr>
              <a:xfrm rot="17363400">
                <a:off x="7956720" y="5204160"/>
                <a:ext cx="806400" cy="102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Freeform 11"/>
            <p:cNvGrpSpPr/>
            <p:nvPr/>
          </p:nvGrpSpPr>
          <p:grpSpPr>
            <a:xfrm>
              <a:off x="8052480" y="5654520"/>
              <a:ext cx="1228680" cy="1092960"/>
              <a:chOff x="8052480" y="5654520"/>
              <a:chExt cx="1228680" cy="1092960"/>
            </a:xfrm>
          </p:grpSpPr>
          <p:pic>
            <p:nvPicPr>
              <p:cNvPr id="197" name="Freeform 11" descr=""/>
              <p:cNvPicPr/>
              <p:nvPr/>
            </p:nvPicPr>
            <p:blipFill>
              <a:blip r:embed="rId6"/>
              <a:stretch/>
            </p:blipFill>
            <p:spPr>
              <a:xfrm>
                <a:off x="8326440" y="5876640"/>
                <a:ext cx="756360" cy="590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8" name=""/>
              <p:cNvSpPr/>
              <p:nvPr/>
            </p:nvSpPr>
            <p:spPr>
              <a:xfrm rot="17363400">
                <a:off x="8267040" y="5690160"/>
                <a:ext cx="799200" cy="102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1981080" y="1752120"/>
            <a:ext cx="60422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577800" indent="-228600"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806400" indent="-228600">
              <a:spcBef>
                <a:spcPts val="2001"/>
              </a:spcBef>
              <a:buClr>
                <a:srgbClr val="a47c0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035000" indent="-228600">
              <a:spcBef>
                <a:spcPts val="2001"/>
              </a:spcBef>
              <a:buClr>
                <a:srgbClr val="63457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1263600" indent="-228600">
              <a:spcBef>
                <a:spcPts val="2001"/>
              </a:spcBef>
              <a:buClr>
                <a:srgbClr val="255775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1263600" indent="-228600"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1263600" indent="-228600"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13"/>
          </p:nvPr>
        </p:nvSpPr>
        <p:spPr>
          <a:xfrm>
            <a:off x="5889240" y="6499080"/>
            <a:ext cx="213372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14"/>
          </p:nvPr>
        </p:nvSpPr>
        <p:spPr>
          <a:xfrm>
            <a:off x="1981080" y="6499080"/>
            <a:ext cx="289584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15"/>
          </p:nvPr>
        </p:nvSpPr>
        <p:spPr>
          <a:xfrm>
            <a:off x="8027640" y="6208200"/>
            <a:ext cx="104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404040"/>
                </a:solidFill>
                <a:latin typeface="Showcard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72673-552D-4874-A5E1-CB7380F2DF7D}" type="slidenum">
              <a:rPr b="1" lang="en-US" sz="2800" spc="-1" strike="noStrike">
                <a:solidFill>
                  <a:srgbClr val="404040"/>
                </a:solidFill>
                <a:latin typeface="Showcard Gothic"/>
              </a:rPr>
              <a:t>&lt;number&gt;</a:t>
            </a:fld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Freeform 7" descr=""/>
          <p:cNvPicPr/>
          <p:nvPr/>
        </p:nvPicPr>
        <p:blipFill>
          <a:blip r:embed="rId3"/>
          <a:stretch/>
        </p:blipFill>
        <p:spPr>
          <a:xfrm>
            <a:off x="-23760" y="-79200"/>
            <a:ext cx="1792080" cy="6937200"/>
          </a:xfrm>
          <a:prstGeom prst="rect">
            <a:avLst/>
          </a:prstGeom>
          <a:ln w="0">
            <a:noFill/>
          </a:ln>
        </p:spPr>
      </p:pic>
      <p:grpSp>
        <p:nvGrpSpPr>
          <p:cNvPr id="241" name="Group 8"/>
          <p:cNvGrpSpPr/>
          <p:nvPr/>
        </p:nvGrpSpPr>
        <p:grpSpPr>
          <a:xfrm>
            <a:off x="7234200" y="5165280"/>
            <a:ext cx="2046960" cy="1827000"/>
            <a:chOff x="7234200" y="5165280"/>
            <a:chExt cx="2046960" cy="1827000"/>
          </a:xfrm>
        </p:grpSpPr>
        <p:grpSp>
          <p:nvGrpSpPr>
            <p:cNvPr id="242" name="Freeform 9"/>
            <p:cNvGrpSpPr/>
            <p:nvPr/>
          </p:nvGrpSpPr>
          <p:grpSpPr>
            <a:xfrm>
              <a:off x="7234200" y="5892480"/>
              <a:ext cx="1231200" cy="1099800"/>
              <a:chOff x="7234200" y="5892480"/>
              <a:chExt cx="1231200" cy="1099800"/>
            </a:xfrm>
          </p:grpSpPr>
          <p:pic>
            <p:nvPicPr>
              <p:cNvPr id="243" name="Freeform 9" descr=""/>
              <p:cNvPicPr/>
              <p:nvPr/>
            </p:nvPicPr>
            <p:blipFill>
              <a:blip r:embed="rId4"/>
              <a:stretch/>
            </p:blipFill>
            <p:spPr>
              <a:xfrm>
                <a:off x="7512120" y="6110640"/>
                <a:ext cx="756360" cy="600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4" name=""/>
              <p:cNvSpPr/>
              <p:nvPr/>
            </p:nvSpPr>
            <p:spPr>
              <a:xfrm rot="17363400">
                <a:off x="7446240" y="5931360"/>
                <a:ext cx="806400" cy="102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Freeform 10"/>
            <p:cNvGrpSpPr/>
            <p:nvPr/>
          </p:nvGrpSpPr>
          <p:grpSpPr>
            <a:xfrm>
              <a:off x="7744680" y="5165280"/>
              <a:ext cx="1231200" cy="1099800"/>
              <a:chOff x="7744680" y="5165280"/>
              <a:chExt cx="1231200" cy="1099800"/>
            </a:xfrm>
          </p:grpSpPr>
          <p:pic>
            <p:nvPicPr>
              <p:cNvPr id="246" name="Freeform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8019000" y="5384880"/>
                <a:ext cx="756360" cy="600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7" name=""/>
              <p:cNvSpPr/>
              <p:nvPr/>
            </p:nvSpPr>
            <p:spPr>
              <a:xfrm rot="17363400">
                <a:off x="7956720" y="5204160"/>
                <a:ext cx="806400" cy="102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Freeform 11"/>
            <p:cNvGrpSpPr/>
            <p:nvPr/>
          </p:nvGrpSpPr>
          <p:grpSpPr>
            <a:xfrm>
              <a:off x="8052480" y="5654520"/>
              <a:ext cx="1228680" cy="1092960"/>
              <a:chOff x="8052480" y="5654520"/>
              <a:chExt cx="1228680" cy="1092960"/>
            </a:xfrm>
          </p:grpSpPr>
          <p:pic>
            <p:nvPicPr>
              <p:cNvPr id="249" name="Freeform 11" descr=""/>
              <p:cNvPicPr/>
              <p:nvPr/>
            </p:nvPicPr>
            <p:blipFill>
              <a:blip r:embed="rId6"/>
              <a:stretch/>
            </p:blipFill>
            <p:spPr>
              <a:xfrm>
                <a:off x="8326440" y="5876640"/>
                <a:ext cx="756360" cy="590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 rot="17363400">
                <a:off x="8267040" y="5690160"/>
                <a:ext cx="799200" cy="102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1981080" y="1752120"/>
            <a:ext cx="60422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577800" indent="-228600"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806400" indent="-228600">
              <a:spcBef>
                <a:spcPts val="2001"/>
              </a:spcBef>
              <a:buClr>
                <a:srgbClr val="a47c0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035000" indent="-228600">
              <a:spcBef>
                <a:spcPts val="2001"/>
              </a:spcBef>
              <a:buClr>
                <a:srgbClr val="63457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1263600" indent="-228600">
              <a:spcBef>
                <a:spcPts val="2001"/>
              </a:spcBef>
              <a:buClr>
                <a:srgbClr val="255775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1263600" indent="-228600"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1263600" indent="-228600"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5889240" y="6499080"/>
            <a:ext cx="213372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1981080" y="6499080"/>
            <a:ext cx="289584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8027640" y="6208200"/>
            <a:ext cx="104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404040"/>
                </a:solidFill>
                <a:latin typeface="Showcard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63E0F-2E42-4335-978E-4440470AC877}" type="slidenum">
              <a:rPr b="1" lang="en-US" sz="2800" spc="-1" strike="noStrike">
                <a:solidFill>
                  <a:srgbClr val="404040"/>
                </a:solidFill>
                <a:latin typeface="Showcard Gothic"/>
              </a:rPr>
              <a:t>&lt;number&gt;</a:t>
            </a:fld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Freeform 7" descr=""/>
          <p:cNvPicPr/>
          <p:nvPr/>
        </p:nvPicPr>
        <p:blipFill>
          <a:blip r:embed="rId3"/>
          <a:stretch/>
        </p:blipFill>
        <p:spPr>
          <a:xfrm>
            <a:off x="-23760" y="-79200"/>
            <a:ext cx="1792080" cy="6937200"/>
          </a:xfrm>
          <a:prstGeom prst="rect">
            <a:avLst/>
          </a:prstGeom>
          <a:ln w="0">
            <a:noFill/>
          </a:ln>
        </p:spPr>
      </p:pic>
      <p:pic>
        <p:nvPicPr>
          <p:cNvPr id="293" name="Freeform 8" descr=""/>
          <p:cNvPicPr/>
          <p:nvPr/>
        </p:nvPicPr>
        <p:blipFill>
          <a:blip r:embed="rId4"/>
          <a:stretch/>
        </p:blipFill>
        <p:spPr>
          <a:xfrm>
            <a:off x="4627440" y="469800"/>
            <a:ext cx="4205520" cy="583884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981080" y="1752120"/>
            <a:ext cx="60422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577800" indent="-228600"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806400" indent="-228600">
              <a:spcBef>
                <a:spcPts val="2001"/>
              </a:spcBef>
              <a:buClr>
                <a:srgbClr val="a47c0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035000" indent="-228600">
              <a:spcBef>
                <a:spcPts val="2001"/>
              </a:spcBef>
              <a:buClr>
                <a:srgbClr val="63457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1263600" indent="-228600">
              <a:spcBef>
                <a:spcPts val="2001"/>
              </a:spcBef>
              <a:buClr>
                <a:srgbClr val="255775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1263600" indent="-228600"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1263600" indent="-228600"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889240" y="6499080"/>
            <a:ext cx="213372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81080" y="6499080"/>
            <a:ext cx="289584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8027640" y="6208200"/>
            <a:ext cx="104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404040"/>
                </a:solidFill>
                <a:latin typeface="Showcard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BA5B5-2D00-423D-BADB-272998F086F5}" type="slidenum">
              <a:rPr b="1" lang="en-US" sz="2800" spc="-1" strike="noStrike">
                <a:solidFill>
                  <a:srgbClr val="404040"/>
                </a:solidFill>
                <a:latin typeface="Showcard Gothic"/>
              </a:rPr>
              <a:t>&lt;number&gt;</a:t>
            </a:fld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Rectangle 2" descr=""/>
          <p:cNvPicPr/>
          <p:nvPr/>
        </p:nvPicPr>
        <p:blipFill>
          <a:blip r:embed="rId1"/>
          <a:stretch/>
        </p:blipFill>
        <p:spPr>
          <a:xfrm>
            <a:off x="969840" y="73080"/>
            <a:ext cx="7058160" cy="1384200"/>
          </a:xfrm>
          <a:prstGeom prst="rect">
            <a:avLst/>
          </a:prstGeom>
          <a:ln w="0">
            <a:noFill/>
          </a:ln>
        </p:spPr>
      </p:pic>
      <p:pic>
        <p:nvPicPr>
          <p:cNvPr id="343" name="Rectangle 3" descr=""/>
          <p:cNvPicPr/>
          <p:nvPr/>
        </p:nvPicPr>
        <p:blipFill>
          <a:blip r:embed="rId2"/>
          <a:stretch/>
        </p:blipFill>
        <p:spPr>
          <a:xfrm>
            <a:off x="1944720" y="1712880"/>
            <a:ext cx="60832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Rectangle 2" descr=""/>
          <p:cNvPicPr/>
          <p:nvPr/>
        </p:nvPicPr>
        <p:blipFill>
          <a:blip r:embed="rId1"/>
          <a:stretch/>
        </p:blipFill>
        <p:spPr>
          <a:xfrm>
            <a:off x="1000080" y="0"/>
            <a:ext cx="7027920" cy="1457280"/>
          </a:xfrm>
          <a:prstGeom prst="rect">
            <a:avLst/>
          </a:prstGeom>
          <a:ln w="0">
            <a:noFill/>
          </a:ln>
        </p:spPr>
      </p:pic>
      <p:pic>
        <p:nvPicPr>
          <p:cNvPr id="361" name="Rectangle 3" descr=""/>
          <p:cNvPicPr/>
          <p:nvPr/>
        </p:nvPicPr>
        <p:blipFill>
          <a:blip r:embed="rId2"/>
          <a:stretch/>
        </p:blipFill>
        <p:spPr>
          <a:xfrm>
            <a:off x="1944720" y="1712880"/>
            <a:ext cx="674856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Rectangle 2" descr=""/>
          <p:cNvPicPr/>
          <p:nvPr/>
        </p:nvPicPr>
        <p:blipFill>
          <a:blip r:embed="rId1"/>
          <a:stretch/>
        </p:blipFill>
        <p:spPr>
          <a:xfrm>
            <a:off x="1000080" y="73080"/>
            <a:ext cx="7027920" cy="1384200"/>
          </a:xfrm>
          <a:prstGeom prst="rect">
            <a:avLst/>
          </a:prstGeom>
          <a:ln w="0">
            <a:noFill/>
          </a:ln>
        </p:spPr>
      </p:pic>
      <p:pic>
        <p:nvPicPr>
          <p:cNvPr id="363" name="Rectangle 3" descr=""/>
          <p:cNvPicPr/>
          <p:nvPr/>
        </p:nvPicPr>
        <p:blipFill>
          <a:blip r:embed="rId2"/>
          <a:stretch/>
        </p:blipFill>
        <p:spPr>
          <a:xfrm>
            <a:off x="1944720" y="1712880"/>
            <a:ext cx="674856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Rectangle 2" descr=""/>
          <p:cNvPicPr/>
          <p:nvPr/>
        </p:nvPicPr>
        <p:blipFill>
          <a:blip r:embed="rId1"/>
          <a:stretch/>
        </p:blipFill>
        <p:spPr>
          <a:xfrm>
            <a:off x="1000080" y="0"/>
            <a:ext cx="7027920" cy="1457280"/>
          </a:xfrm>
          <a:prstGeom prst="rect">
            <a:avLst/>
          </a:prstGeom>
          <a:ln w="0">
            <a:noFill/>
          </a:ln>
        </p:spPr>
      </p:pic>
      <p:pic>
        <p:nvPicPr>
          <p:cNvPr id="365" name="Rectangle 3" descr=""/>
          <p:cNvPicPr/>
          <p:nvPr/>
        </p:nvPicPr>
        <p:blipFill>
          <a:blip r:embed="rId2"/>
          <a:stretch/>
        </p:blipFill>
        <p:spPr>
          <a:xfrm>
            <a:off x="1908000" y="1646280"/>
            <a:ext cx="695016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Rectangle 2" descr=""/>
          <p:cNvPicPr/>
          <p:nvPr/>
        </p:nvPicPr>
        <p:blipFill>
          <a:blip r:embed="rId1"/>
          <a:stretch/>
        </p:blipFill>
        <p:spPr>
          <a:xfrm>
            <a:off x="969840" y="73080"/>
            <a:ext cx="7058160" cy="1384200"/>
          </a:xfrm>
          <a:prstGeom prst="rect">
            <a:avLst/>
          </a:prstGeom>
          <a:ln w="0">
            <a:noFill/>
          </a:ln>
        </p:spPr>
      </p:pic>
      <p:pic>
        <p:nvPicPr>
          <p:cNvPr id="345" name="Rectangle 3" descr=""/>
          <p:cNvPicPr/>
          <p:nvPr/>
        </p:nvPicPr>
        <p:blipFill>
          <a:blip r:embed="rId2"/>
          <a:stretch/>
        </p:blipFill>
        <p:spPr>
          <a:xfrm>
            <a:off x="1944720" y="1712880"/>
            <a:ext cx="60832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Rectangle 2" descr=""/>
          <p:cNvPicPr/>
          <p:nvPr/>
        </p:nvPicPr>
        <p:blipFill>
          <a:blip r:embed="rId1"/>
          <a:stretch/>
        </p:blipFill>
        <p:spPr>
          <a:xfrm>
            <a:off x="969840" y="73080"/>
            <a:ext cx="7094520" cy="1384200"/>
          </a:xfrm>
          <a:prstGeom prst="rect">
            <a:avLst/>
          </a:prstGeom>
          <a:ln w="0">
            <a:noFill/>
          </a:ln>
        </p:spPr>
      </p:pic>
      <p:pic>
        <p:nvPicPr>
          <p:cNvPr id="347" name="Rectangle 3" descr=""/>
          <p:cNvPicPr/>
          <p:nvPr/>
        </p:nvPicPr>
        <p:blipFill>
          <a:blip r:embed="rId2"/>
          <a:stretch/>
        </p:blipFill>
        <p:spPr>
          <a:xfrm>
            <a:off x="1908000" y="1646280"/>
            <a:ext cx="6785280" cy="49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Rectangle 2" descr=""/>
          <p:cNvPicPr/>
          <p:nvPr/>
        </p:nvPicPr>
        <p:blipFill>
          <a:blip r:embed="rId1"/>
          <a:stretch/>
        </p:blipFill>
        <p:spPr>
          <a:xfrm>
            <a:off x="1000080" y="0"/>
            <a:ext cx="7027920" cy="1457280"/>
          </a:xfrm>
          <a:prstGeom prst="rect">
            <a:avLst/>
          </a:prstGeom>
          <a:ln w="0">
            <a:noFill/>
          </a:ln>
        </p:spPr>
      </p:pic>
      <p:pic>
        <p:nvPicPr>
          <p:cNvPr id="349" name="Rectangle 3" descr=""/>
          <p:cNvPicPr/>
          <p:nvPr/>
        </p:nvPicPr>
        <p:blipFill>
          <a:blip r:embed="rId2"/>
          <a:stretch/>
        </p:blipFill>
        <p:spPr>
          <a:xfrm>
            <a:off x="1944720" y="1676520"/>
            <a:ext cx="6870600" cy="48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Rectangle 2" descr=""/>
          <p:cNvPicPr/>
          <p:nvPr/>
        </p:nvPicPr>
        <p:blipFill>
          <a:blip r:embed="rId1"/>
          <a:stretch/>
        </p:blipFill>
        <p:spPr>
          <a:xfrm>
            <a:off x="1000080" y="0"/>
            <a:ext cx="7027920" cy="1457280"/>
          </a:xfrm>
          <a:prstGeom prst="rect">
            <a:avLst/>
          </a:prstGeom>
          <a:ln w="0">
            <a:noFill/>
          </a:ln>
        </p:spPr>
      </p:pic>
      <p:pic>
        <p:nvPicPr>
          <p:cNvPr id="351" name="Rectangle 3" descr=""/>
          <p:cNvPicPr/>
          <p:nvPr/>
        </p:nvPicPr>
        <p:blipFill>
          <a:blip r:embed="rId2"/>
          <a:stretch/>
        </p:blipFill>
        <p:spPr>
          <a:xfrm>
            <a:off x="1944720" y="1712880"/>
            <a:ext cx="60832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Rectangle 2" descr=""/>
          <p:cNvPicPr/>
          <p:nvPr/>
        </p:nvPicPr>
        <p:blipFill>
          <a:blip r:embed="rId1"/>
          <a:stretch/>
        </p:blipFill>
        <p:spPr>
          <a:xfrm>
            <a:off x="1000080" y="0"/>
            <a:ext cx="7027920" cy="1457280"/>
          </a:xfrm>
          <a:prstGeom prst="rect">
            <a:avLst/>
          </a:prstGeom>
          <a:ln w="0">
            <a:noFill/>
          </a:ln>
        </p:spPr>
      </p:pic>
      <p:pic>
        <p:nvPicPr>
          <p:cNvPr id="353" name="Rectangle 3" descr=""/>
          <p:cNvPicPr/>
          <p:nvPr/>
        </p:nvPicPr>
        <p:blipFill>
          <a:blip r:embed="rId2"/>
          <a:stretch/>
        </p:blipFill>
        <p:spPr>
          <a:xfrm>
            <a:off x="1908000" y="1603440"/>
            <a:ext cx="6864480" cy="49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Rectangle 2" descr=""/>
          <p:cNvPicPr/>
          <p:nvPr/>
        </p:nvPicPr>
        <p:blipFill>
          <a:blip r:embed="rId1"/>
          <a:stretch/>
        </p:blipFill>
        <p:spPr>
          <a:xfrm>
            <a:off x="969840" y="73080"/>
            <a:ext cx="7058160" cy="1384200"/>
          </a:xfrm>
          <a:prstGeom prst="rect">
            <a:avLst/>
          </a:prstGeom>
          <a:ln w="0">
            <a:noFill/>
          </a:ln>
        </p:spPr>
      </p:pic>
      <p:pic>
        <p:nvPicPr>
          <p:cNvPr id="355" name="Rectangle 3" descr=""/>
          <p:cNvPicPr/>
          <p:nvPr/>
        </p:nvPicPr>
        <p:blipFill>
          <a:blip r:embed="rId2"/>
          <a:stretch/>
        </p:blipFill>
        <p:spPr>
          <a:xfrm>
            <a:off x="1944720" y="1676520"/>
            <a:ext cx="6838920" cy="48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Rectangle 2" descr=""/>
          <p:cNvPicPr/>
          <p:nvPr/>
        </p:nvPicPr>
        <p:blipFill>
          <a:blip r:embed="rId1"/>
          <a:stretch/>
        </p:blipFill>
        <p:spPr>
          <a:xfrm>
            <a:off x="1000080" y="0"/>
            <a:ext cx="7027920" cy="1457280"/>
          </a:xfrm>
          <a:prstGeom prst="rect">
            <a:avLst/>
          </a:prstGeom>
          <a:ln w="0">
            <a:noFill/>
          </a:ln>
        </p:spPr>
      </p:pic>
      <p:pic>
        <p:nvPicPr>
          <p:cNvPr id="357" name="Rectangle 3" descr=""/>
          <p:cNvPicPr/>
          <p:nvPr/>
        </p:nvPicPr>
        <p:blipFill>
          <a:blip r:embed="rId2"/>
          <a:stretch/>
        </p:blipFill>
        <p:spPr>
          <a:xfrm>
            <a:off x="1944720" y="1712880"/>
            <a:ext cx="667548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Rectangle 2" descr=""/>
          <p:cNvPicPr/>
          <p:nvPr/>
        </p:nvPicPr>
        <p:blipFill>
          <a:blip r:embed="rId1"/>
          <a:stretch/>
        </p:blipFill>
        <p:spPr>
          <a:xfrm>
            <a:off x="1000080" y="0"/>
            <a:ext cx="7027920" cy="1457280"/>
          </a:xfrm>
          <a:prstGeom prst="rect">
            <a:avLst/>
          </a:prstGeom>
          <a:ln w="0">
            <a:noFill/>
          </a:ln>
        </p:spPr>
      </p:pic>
      <p:pic>
        <p:nvPicPr>
          <p:cNvPr id="359" name="Rectangle 3" descr=""/>
          <p:cNvPicPr/>
          <p:nvPr/>
        </p:nvPicPr>
        <p:blipFill>
          <a:blip r:embed="rId2"/>
          <a:stretch/>
        </p:blipFill>
        <p:spPr>
          <a:xfrm>
            <a:off x="1944720" y="1712880"/>
            <a:ext cx="60832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1T16:27:01Z</dcterms:created>
  <dc:creator>Mr. Szott</dc:creator>
  <dc:description/>
  <dc:language>en-US</dc:language>
  <cp:lastModifiedBy>Gottner-Grant, Deborah</cp:lastModifiedBy>
  <dcterms:modified xsi:type="dcterms:W3CDTF">2010-01-08T18:04:40Z</dcterms:modified>
  <cp:revision>34</cp:revision>
  <dc:subject/>
  <dc:title>Theme</dc:title>
</cp:coreProperties>
</file>