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AFC-CACD-4542-8B50-7A44A79D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0D7-DF7A-4772-8FE5-B7537219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2EA-3CE6-4C68-86FC-282D978E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458-1C84-48EE-92C3-5D692A71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EA31-89AC-4D5F-913C-1561BBBD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50C7-A1C3-4833-B1CB-0BB6D354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5F00-0823-49E4-8582-E2C14CE2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3AA3-66E6-455F-8640-ABCB65D2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88F1-BDFA-4EEA-B857-6EEB7440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FE27-6458-437F-AE3A-1574DAB7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0D9C-AC39-441E-98D7-0FCE2F9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FF9-984A-4956-BD85-74BFF1BF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A2FF-0150-4AE4-BD6B-DA0DC21D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84A-CA06-4BF4-A809-8CFBAB83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CB0A-AEC8-4CC7-8D52-B4224DD6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8F6A-9865-4A2C-BE17-13BCA04C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2A57-A63E-4212-B44C-1BA38C09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053-FBEC-4EC6-A3E5-81A0799A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365-8575-4308-8892-8474592F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001-FBB4-4DBB-85A5-659AAF93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02D-A502-4409-BEF6-E3499F0C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7A9-159C-4E55-B248-371C361C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16C-A254-452B-82ED-31D42F91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BF8-E1A6-4E32-8D08-DBB3C82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4BEA-F4B7-4260-B0F8-E559F8A1EB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72d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f3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0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45d90"/>
                </a:gs>
                <a:gs pos="100000">
                  <a:srgbClr val="4f5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a30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f48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292f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63d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96293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429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82d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e6796"/>
                </a:gs>
                <a:gs pos="100000">
                  <a:srgbClr val="4f59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f4c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b324f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138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f355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62b4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424b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385a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2d33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940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3e45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3940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796"/>
                  </a:gs>
                  <a:gs pos="100000">
                    <a:srgbClr val="4f59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55DA-0689-439F-B5AF-79976495B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c847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a4c8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Musical Devices in Poetry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nglish 10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n Example of Allitera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xample comes from Ted Hughes’s poem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Lak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t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what I might drop or kick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cks and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bbers the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es,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s through its l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onsonan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repetition of consonant sounds located other than at the beginnings of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Lak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fers a good 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uffles at my feet for what I might dro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kick u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ks and slobbers the s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s, snor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i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p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ssonance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repetition of vowel sounds close togethe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What’s the difference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rhyme and assonance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yme is the repetition of accented vowel sound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unds that follow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nance is simply the repetition of vowel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ar Allan Poe’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ell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g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d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n</a:t>
            </a:r>
            <a:r>
              <a:rPr b="0" lang="en-US" sz="3200" spc="-1" strike="noStrike" u="sng">
                <a:solidFill>
                  <a:srgbClr val="e82ecd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t is Onomatopoei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a word whose sound imitates or reinforces its meaning. In other words, it seeks to imitate the sound for which it st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in everyday language are words like whoosh, tick-tock, zoom, and pu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corn is also onomatopoeia because its name imitates its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What is Refrain?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or more words, phrases, or lines that are repeated regularly in a poem, usually at the end of a stanz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a song, we often call it the chor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 can you fin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real c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school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urk lat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ke straight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 s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 gin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zz June. 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 so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Gwendolyn Br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makes poetry musica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on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r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What is Rhyme?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accented vowel sounds and all succeeding sounds that appear close togeth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An Exampl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with the rain, O loud Southwes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ng the singer, bring the nes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buried flower a drea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settled snowbank s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 the Thawing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obert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3 Types of Rhym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d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ternal Rhy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pproximate Rhyme (also called slan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ecff"/>
                </a:solidFill>
                <a:latin typeface="Arial"/>
              </a:rPr>
              <a:t>End Rhyme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form of r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s the rhyming sound at the end of a line of po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lines of poetry by Langston Hughes are a good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, God of dust and rainbows, help us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ithout dust the rainbow would not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Internal Rhyme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eats sounds within lines of po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ollowing line from Edgar Allan Poe’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Rave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a good 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ce upon a midnight dreary, while I pondered weak and we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Approximate Rhym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opular with more modern po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l rhyming sounds are close, but not exactly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 rhyme is illustrated in these lines by Emily Dicki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evening softly l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n astral h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,” I observed to Heav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punctual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98d"/>
            </a:gs>
            <a:gs pos="100000">
              <a:srgbClr val="2d33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What is Alliteration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etition of consonant sounds in a group of words clos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teration comes at the beginning of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asy way to remember allit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ration uses </a:t>
            </a:r>
            <a:r>
              <a:rPr b="0" lang="en-US" sz="3200" spc="-1" strike="noStrike" u="sng">
                <a:solidFill>
                  <a:srgbClr val="ef511f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letters, except the vow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6:22:59Z</dcterms:created>
  <dc:creator>William Dooley</dc:creator>
  <dc:description/>
  <dc:language>en-US</dc:language>
  <cp:lastModifiedBy>Weld Re5J</cp:lastModifiedBy>
  <dcterms:modified xsi:type="dcterms:W3CDTF">2009-02-20T13:50:36Z</dcterms:modified>
  <cp:revision>9</cp:revision>
  <dc:subject/>
  <dc:title>Musical Devices in Poetry</dc:title>
</cp:coreProperties>
</file>