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DC5-FF1B-4162-B09B-BCB652B8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1DF-3031-4D1A-861B-56B8AD59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F30-D056-4D36-B1CF-6BCB2394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970-41D6-4892-BC65-01E253FA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7EE-ABA1-45DD-BB77-36981224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2F80-5A7B-4552-8A1D-4E7D4784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2312-6F35-4D35-8831-A26E1E45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DBC5-AAFD-4723-8649-88460CF7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173B-2FFA-4D27-9C6D-E03EC1D0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0DCD-33CC-47CB-B045-BDAE838D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1FED-292C-4D91-B465-3A0A08D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7F5-A038-43B6-A9F3-BC814B5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B81C-38E2-4AAE-85D0-164BD6D1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4A66-B376-4EDC-B425-4A2E6BD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EA33-F9BE-4D55-A214-8B97493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EBEA-E4F2-4ABB-9FA7-A4951DC5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F0E0-2B11-4D56-9AAE-9DB5BE85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08E-5C42-4B4E-B587-A7D97666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1D3-4B73-4B53-8667-2973C350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F74-F1C9-46C9-8C56-AB9B3E40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6D7-60B5-4B80-9846-576A98C9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BC1-7B19-42E4-A0EF-1DAA0E8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823-62FD-4EF7-B9FF-2ADE412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2C9-A1F4-45AB-8C2C-B2F3B44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F9A-EDB5-4F9D-81B2-452AD35F9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B34A-667A-4FB0-BB7E-EC6CCD15CA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847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a4c8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usical Devices in Poetr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glish 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 Example of Alliter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xample comes from Ted Hughes’s poem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ak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t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what I might drop or kick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ks and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bbers the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s,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s through its 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onson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repetition of consonant sounds located other than at the beginnings of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fers a good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feet for what I might dro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kick u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ks and slobbers the s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, snor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i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ssonance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repetition of vowel sounds close togethe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What’s the difference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hyme and assonanc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yme is the repetition of accented vowel sound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nds that follow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nance is simply the repetition of vowel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ar Allan Poe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ell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g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n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Onomatopoei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word whose sound imitates or reinforces its meaning. In other words, it seeks to imitate the sound for which it st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 everyday language are words like whoosh, tick-tock, zoom, and pu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corn is also onomatopoeia because its name imitates its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What is Refrain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or more words, phrases, or lines that are repeated regularly in a poem, usually at the end of a stanz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a song, we often call it the chor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can you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real c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ch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rk lat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straight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s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 g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 Jun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Gwendolyn Br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makes poetry music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What is Rhyme?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accented vowel sounds and all succeeding sounds that appear close toge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An Exampl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with the rain, O loud Southwes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the singer, bring the nes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buried flower a drea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settled snowbank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Thawing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Types of Rhy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d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ternal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pproximate Rhyme (also called sla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End Rhym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form of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s the rhyming sound at the end of a line of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lines of poetry by Langston Hughes are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God of dust and rainbows, help us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ithout dust the rainbow would not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Internal Rhym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s sounds within lines of po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llowing line from Edgar Allan Poe’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Rave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 good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upon a midnight dreary, while I pondered weak and we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Approximate Rhym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pular with more modern po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rhyming sounds are close, but not exactly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rhyme is illustrated in these lines by Emily Dick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evening softly 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n astral h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,” I observed to Hea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punctual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lliteration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tition of consonant sounds in a group of words clos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teration comes at the beginning of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remember allit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ion uses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etters, except the vow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6:22:59Z</dcterms:created>
  <dc:creator>William Dooley</dc:creator>
  <dc:description/>
  <dc:language>en-US</dc:language>
  <cp:lastModifiedBy>Weld Re5J</cp:lastModifiedBy>
  <dcterms:modified xsi:type="dcterms:W3CDTF">2009-02-20T13:50:36Z</dcterms:modified>
  <cp:revision>9</cp:revision>
  <dc:subject/>
  <dc:title>Musical Devices in Poetry</dc:title>
</cp:coreProperties>
</file>