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FB3-1A82-47CE-9A77-EB0B4ED8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869-83B2-4CF5-9FAE-686F08B1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880-F3A6-4422-AC3C-A217F531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F81-519D-4155-89F2-6FF25EA4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EC2A-6BAF-40D6-B033-2A5DF692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6A16-8177-48EC-B550-D7CC01F7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5FE3-1ADB-4E02-971A-8D407369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F198-029C-4843-98E3-B727F4E1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414C-DD37-4D06-B5D4-8BC5DE70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D0BF-1D3C-4F6D-A2E0-9200FEA9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F4CB-9D33-41DD-A6E9-07EC4DD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FD5-C5F3-40A2-88CA-051ED97C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6EBC-AA29-4738-92C8-ECBC5B40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DA2C-B3D5-416C-8E30-9BEA5791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2983-D318-4052-AA9C-0D5D088C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632-C8EE-48CF-B16F-A5117F2D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8F87-5623-43DC-9D3C-734C021F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138-66AA-4E22-B49D-59865830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B65-C2C4-470A-9A60-FA6F833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AD9-5B1B-44E0-A264-EC7B2F1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92B-4D88-4B01-9FA5-37709A9B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3F5-D268-4892-8363-F996349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728-5BD4-414B-BDA3-9423B81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708-7165-47C4-8FC9-532FF58C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48E2-1CA0-4F4F-B856-7E844A2C3D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8E0F-F085-4E08-BEED-E23D133CC5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847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a4c8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usical Devices in Poetr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glish 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 Example of Alliter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xample comes from Ted Hughes’s poem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ak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t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what I might drop or kick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ks and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bbers the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s,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s through its 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onson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repetition of consonant sounds located other than at the beginnings of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fers a good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feet for what I might dro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kick u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ks and slobbers the s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, snor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i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ssonance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repetition of vowel sounds close togethe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What’s the difference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hyme and assonanc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yme is the repetition of accented vowel sound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nds that follow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nance is simply the repetition of vowel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ar Allan Poe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ell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g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n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Onomatopoei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word whose sound imitates or reinforces its meaning. In other words, it seeks to imitate the sound for which it st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 everyday language are words like whoosh, tick-tock, zoom, and pu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corn is also onomatopoeia because its name imitates its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What is Refrain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or more words, phrases, or lines that are repeated regularly in a poem, usually at the end of a stanz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a song, we often call it the chor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can you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real c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ch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rk lat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straight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s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 g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 Jun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Gwendolyn Br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makes poetry music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What is Rhyme?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accented vowel sounds and all succeeding sounds that appear close toge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An Exampl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with the rain, O loud Southwes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the singer, bring the nes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buried flower a drea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settled snowbank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Thawing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Types of Rhy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d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ternal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pproximate Rhyme (also called sla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End Rhym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form of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s the rhyming sound at the end of a line of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lines of poetry by Langston Hughes are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God of dust and rainbows, help us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ithout dust the rainbow would not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Internal Rhym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s sounds within lines of po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llowing line from Edgar Allan Poe’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Rave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 good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upon a midnight dreary, while I pondered weak and we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Approximate Rhym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pular with more modern po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rhyming sounds are close, but not exactly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rhyme is illustrated in these lines by Emily Dick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evening softly 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n astral h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,” I observed to Hea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punctual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lliteration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tition of consonant sounds in a group of words clos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teration comes at the beginning of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remember allit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ion uses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etters, except the vow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6:22:59Z</dcterms:created>
  <dc:creator>William Dooley</dc:creator>
  <dc:description/>
  <dc:language>en-US</dc:language>
  <cp:lastModifiedBy>Weld Re5J</cp:lastModifiedBy>
  <dcterms:modified xsi:type="dcterms:W3CDTF">2009-02-20T13:50:36Z</dcterms:modified>
  <cp:revision>9</cp:revision>
  <dc:subject/>
  <dc:title>Musical Devices in Poetry</dc:title>
</cp:coreProperties>
</file>