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C53-02FD-4E47-8B09-0983FA3B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F3F1-6C8D-418A-BD31-970D1499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464-FB6D-40C4-AEEC-E4A3A833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E1B-42D9-467F-B5B1-2CBDB732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BA9D-0495-4951-BDCA-055A1767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D483-E423-4E56-A690-127D4285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10B0-8B20-4D80-A7AD-D543734D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DFCE-44CF-4236-ACC8-8820F8DD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C029-24E6-40E6-BA97-E1AF0D8A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384B-2D25-4E3D-A582-DD4E3389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7DA1-6B4D-4638-958E-CB5AA0F0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831-344C-4A70-A934-017E0D14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C926-6C5C-44BE-ACD1-3FAD85DF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D719-500D-47B8-B178-069DA256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C989-B905-48EB-8F5A-E19F0841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032F-A9D3-4DA6-9855-22085372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70F6-8463-4393-B69D-0A68DABA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EFF-616F-4A13-8813-150C75EC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F8A-C792-417E-8CBC-EA29D137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6D8-232F-46E3-A61C-BE24E83B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9EF-F9C3-4178-899F-D54063B9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9F5-B9E7-4713-875F-4F946856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511-439D-4D3F-9950-8825F7AC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1A0-52FB-4A95-897E-EB7E430E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72d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f3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0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45d90"/>
                </a:gs>
                <a:gs pos="100000">
                  <a:srgbClr val="4f5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a30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92f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63d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96293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429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82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e6796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f4c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b324f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138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62b4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d33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e45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3940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796"/>
                  </a:gs>
                  <a:gs pos="100000">
                    <a:srgbClr val="4f59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7D47-A950-443F-8036-5FCC00C782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72d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f3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0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45d90"/>
                </a:gs>
                <a:gs pos="100000">
                  <a:srgbClr val="4f5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a30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92f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63d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96293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429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82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e6796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f4c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b324f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138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62b4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d33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e45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3940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796"/>
                  </a:gs>
                  <a:gs pos="100000">
                    <a:srgbClr val="4f59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D765-2C93-41F6-A985-A2CA57AACB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c847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a4c8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Musical Devices in Poetr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English 10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n Example of Allitera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example comes from Ted Hughes’s poem,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Lak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uffles at my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et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what I might drop or kick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cks and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bbers the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nes,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s through its l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Consonanc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repetition of consonant sounds located other than at the beginnings of w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La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fers a good 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uffles at my feet for what I might dro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kick u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ks and slobbers the s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s, snor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t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i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t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p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What is Assonance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repetition of vowel sounds close togethe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What’s the difference?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re rhyme and assonance diffe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yme is the repetition of accented vowel sound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unds that follow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nance is simply the repetition of vowel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gar Allan Poe’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Bell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a good 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m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t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g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d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n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hat is Onomatopoei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a word whose sound imitates or reinforces its meaning. In other words, it seeks to imitate the sound for which it st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in everyday language are words like whoosh, tick-tock, zoom, and pur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corn is also onomatopoeia because its name imitates its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What is Refrain?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e or more words, phrases, or lines that are repeated regularly in a poem, usually at the end of a stanz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a song, we often call it the choru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many can you fin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real cool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school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rk late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ke straight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sin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 gin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zz June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so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Gwendolyn Br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makes poetry musica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hy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lite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on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on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omatopoe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What is Rhyme?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Repetition of accented vowel sounds and all succeeding sounds that appear close togeth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Arial"/>
              </a:rPr>
              <a:t>An Example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with the rain, O loud Southwes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the singer, bring the nest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buried flower a drea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settled snowbank s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Fro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the Thawing 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Robert 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3 Types of Rhym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nd Rhym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nternal Rhym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pproximate Rhyme (also called slant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Arial"/>
              </a:rPr>
              <a:t>End Rhyme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common form of rhy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s the rhyming sound at the end of a line of po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llowing lines of poetry by Langston Hughes are a good 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, God of dust and rainbows, help us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without dust the rainbow would not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Internal Rhyme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eats sounds within lines of poe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ollowing line from Edgar Allan Poe’s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Raven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a good examp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upon a midnight dreary, while I pondered weak and we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Approximate Rhym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popular with more modern po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nal rhyming sounds are close, but not exactly the s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 rhyme is illustrated in these lines by Emily Dickin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f evening softly l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n astral h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,” I observed to Heav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punctual!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What is Alliteration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petition of consonant sounds in a group of words close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iteration comes at the beginning of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asy way to remember alliter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ration uses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letters, except the vow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6:22:59Z</dcterms:created>
  <dc:creator>William Dooley</dc:creator>
  <dc:description/>
  <dc:language>en-US</dc:language>
  <cp:lastModifiedBy>Weld Re5J</cp:lastModifiedBy>
  <dcterms:modified xsi:type="dcterms:W3CDTF">2009-02-20T13:50:36Z</dcterms:modified>
  <cp:revision>9</cp:revision>
  <dc:subject/>
  <dc:title>Musical Devices in Poetry</dc:title>
</cp:coreProperties>
</file>