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F761D-817B-4D25-89B4-CFCCD5602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DB65-FFB0-498C-912E-4B113D521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9E7C6-F315-4B56-A1AB-71571E154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F9BE9-6DC0-431B-BCDD-91F32FCE2D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BF9F1-8AED-4E39-ABCD-0F4CA99C4C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E8C5C-AF27-4B86-9047-B5A70836B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8163-985E-4BC4-8ABC-7C6605ED5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39AEC-66D0-4DA6-8AD0-F63103DEE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3B349-320F-4CC0-9964-B970BB24C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B8A61-CD76-4575-A538-F79D36727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AE5E-6D85-43E0-96F9-225B7C076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3715D-9755-4C55-89F4-2C5DA94B7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7459-BA19-43EA-9246-D3DEB13153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57200" y="63244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ME</a:t>
            </a:r>
            <a:endParaRPr b="0" lang="en-US" sz="2400" spc="1" strike="noStrike">
              <a:ln w="19080">
                <a:solidFill>
                  <a:srgbClr val="ffcc99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slide6.xml"/><Relationship Id="rId6" Type="http://schemas.openxmlformats.org/officeDocument/2006/relationships/slide" Target="slide11.xml"/><Relationship Id="rId7" Type="http://schemas.openxmlformats.org/officeDocument/2006/relationships/slide" Target="slide7.xml"/><Relationship Id="rId8" Type="http://schemas.openxmlformats.org/officeDocument/2006/relationships/slide" Target="slide12.xml"/><Relationship Id="rId9" Type="http://schemas.openxmlformats.org/officeDocument/2006/relationships/slide" Target="slide8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828800"/>
            <a:ext cx="6629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tigone 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protagonist must possess this quality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atal (tragic) f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is the tragic hero in Antigon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downfall of Antigone’s tragic hero is caused by this personality trait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event in a tragedy leads to the hero’s downfall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3124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astrop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reon decrees that this person must not be buried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nie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fears breaking Creon’s law because the punishment is so sever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3276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is the punishment for breaking Creon’s law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ston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tigone prefers to follow these law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ods’ la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DAILY DOUBLE) Creon sentences Antigone to this, changing his mind about the original decre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4266720"/>
            <a:ext cx="7010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e locked in a stone vault (cav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tries to kill his/her father, then turns the sword on him/herself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e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380880"/>
          <a:ext cx="8458200" cy="5867640"/>
        </p:xfrm>
        <a:graphic>
          <a:graphicData uri="http://schemas.openxmlformats.org/drawingml/2006/table">
            <a:tbl>
              <a:tblPr/>
              <a:tblGrid>
                <a:gridCol w="1814760"/>
                <a:gridCol w="1660320"/>
                <a:gridCol w="1660680"/>
                <a:gridCol w="1662120"/>
                <a:gridCol w="1660320"/>
              </a:tblGrid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Classical Dra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How Tragic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Breaking the La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Dea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Quota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tries to plead for execution, but Creon refuse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commits suicide by hanging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g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se two characters die in battl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nieces and Eteo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stabs him/herself in the castl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yd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said, “Anarchy, anarchy! Show me a greater evil!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 know I must die, even without your decree: I am only mortal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g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ig words are always punished, and proud men in old age learn to be wise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ag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time is not far off when you shall pay back corpse for corpse, flesh of your own flesh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ires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law is strong, we must give in to the law… I must yield to those in authority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259056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ne reason why Creon changed his mind about Antigone’s method of execu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81080" y="838080"/>
            <a:ext cx="4876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 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Classical Drama originated in this country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7920" y="3200400"/>
            <a:ext cx="4876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 classical play only included this many actor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31240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lassical Drama originated in festivals that honored this god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onys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group of people would sing and chant on stag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se are the names for the circular and platform area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chestra and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 a tragedy, the protagonist is called thi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gic he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9:17:47Z</dcterms:created>
  <dc:creator>Cathy Campbell</dc:creator>
  <dc:description/>
  <dc:language>en-US</dc:language>
  <cp:lastModifiedBy>deborah gottner</cp:lastModifiedBy>
  <dcterms:modified xsi:type="dcterms:W3CDTF">2010-02-11T03:29:43Z</dcterms:modified>
  <cp:revision>10</cp:revision>
  <dc:subject/>
  <dc:title>PowerPoint Presentation</dc:title>
</cp:coreProperties>
</file>