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A7AC-CA22-407D-980C-D03790B8D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936E-42AD-42E8-B68E-E9BD9790D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73EF-2B0B-44DC-BFE2-3CDD0CDD8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844F-C047-4DF9-B0FA-230A20A9E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7CEA-A294-459C-9ABE-C47A1F558E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2255-F3DE-4B76-B21E-EDE7D7364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7D92-B481-400A-9D80-1DFF61261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7C32-6582-4616-AB9A-B5959C0A1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F33D-F4F6-41B7-AF74-DF49C0CCE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7217-9A42-4A42-AC84-C09B2EE6F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4DB9-FEEA-43CD-AF7C-EDDD9944D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EF1E-D90A-40C0-A7EA-116ADC311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E50-AE0A-4FF7-99A3-59173C9F2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57200" y="63244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</a:t>
            </a:r>
            <a:endParaRPr b="0" lang="en-US" sz="2400" spc="1" strike="noStrike">
              <a:ln w="19080">
                <a:solidFill>
                  <a:srgbClr val="ffcc99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7.xml"/><Relationship Id="rId8" Type="http://schemas.openxmlformats.org/officeDocument/2006/relationships/slide" Target="slide12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828800"/>
            <a:ext cx="6629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tigone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protagonist must possess this qualit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tal (tragic) f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is the tragic hero in Antigon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downfall of Antigone’s tragic hero is caused by this personality trait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event in a tragedy leads to the hero’s downfall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astrop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reon decrees that this person must not be burie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fears breaking Creon’s law because the punishment is so sever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is the punishment for breaking Creon’s law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sto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gone prefers to follow these law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ods’ la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DAILY DOUBLE) Creon sentences Antigone to this, changing his mind about the original decre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locked in a stone vault (cav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kill his/her father, then turns the sword on him/herself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e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380880"/>
          <a:ext cx="8458200" cy="5867640"/>
        </p:xfrm>
        <a:graphic>
          <a:graphicData uri="http://schemas.openxmlformats.org/drawingml/2006/table">
            <a:tbl>
              <a:tblPr/>
              <a:tblGrid>
                <a:gridCol w="1814760"/>
                <a:gridCol w="1660320"/>
                <a:gridCol w="1660680"/>
                <a:gridCol w="1662120"/>
                <a:gridCol w="1660320"/>
              </a:tblGrid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lassical Dr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How Tragic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Breaking the La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De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Quo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plead for execution, but Creon refuse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commits suicide by hanging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two characters die in bat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 and Eteo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tabs him/herself in the cas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y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aid, “Anarchy, anarchy! Show me a greater evil!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 know I must die, even without your decree: I am only mortal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ig words are always punished, and proud men in old age learn to be wise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ag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time is not far off when you shall pay back corpse for corpse, flesh of your own flesh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ires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law is strong, we must give in to the law… I must yield to those in authority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ne reason why Creon changed his mind about Antigone’s method of execu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83808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assical Drama originated in this countr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320040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 classical play only included this many actor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31240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lassical Drama originated in festivals that honored this go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onys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group of people would sing and chant on stag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are the names for the circular and platform area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chestra and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 a tragedy, the protagonist is called thi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gic he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9:17:47Z</dcterms:created>
  <dc:creator>Cathy Campbell</dc:creator>
  <dc:description/>
  <dc:language>en-US</dc:language>
  <cp:lastModifiedBy>deborah gottner</cp:lastModifiedBy>
  <dcterms:modified xsi:type="dcterms:W3CDTF">2010-02-11T03:29:43Z</dcterms:modified>
  <cp:revision>10</cp:revision>
  <dc:subject/>
  <dc:title>PowerPoint Presentation</dc:title>
</cp:coreProperties>
</file>