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D9BB0-7600-4B66-BB6E-225613FBC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496E0-C542-42ED-9FFE-F2A8451A7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2AD23-9239-4475-8A94-A3867F64F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B20B1-5A4E-4C5F-8452-E7A3CDC24C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8F42D-EC59-4F17-94EA-2DF09D7F86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9352F-77E9-4AA8-B14F-C77626578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C510D-A054-41DF-ACF4-9ED8D39F6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991C3-209A-4AD3-BB21-66A1AE8A1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1A647-9EC2-4C0F-9E9E-3B0238CCE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7FBF5-3304-46F9-9639-D9FDA24ED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0F0B9-D46F-4D34-ACAC-1DAB39CE9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F6903-8A98-4065-9DEF-E052BADF7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15CE-1476-40A4-B7BF-9F9F0AD20F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457200" y="63244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ME</a:t>
            </a:r>
            <a:endParaRPr b="0" lang="en-US" sz="2400" spc="1" strike="noStrike">
              <a:ln w="19080">
                <a:solidFill>
                  <a:srgbClr val="ffcc99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slide" Target="slide5.xml"/><Relationship Id="rId4" Type="http://schemas.openxmlformats.org/officeDocument/2006/relationships/slide" Target="slide10.xml"/><Relationship Id="rId5" Type="http://schemas.openxmlformats.org/officeDocument/2006/relationships/slide" Target="slide6.xml"/><Relationship Id="rId6" Type="http://schemas.openxmlformats.org/officeDocument/2006/relationships/slide" Target="slide11.xml"/><Relationship Id="rId7" Type="http://schemas.openxmlformats.org/officeDocument/2006/relationships/slide" Target="slide7.xml"/><Relationship Id="rId8" Type="http://schemas.openxmlformats.org/officeDocument/2006/relationships/slide" Target="slide12.xml"/><Relationship Id="rId9" Type="http://schemas.openxmlformats.org/officeDocument/2006/relationships/slide" Target="slide8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828800"/>
            <a:ext cx="66294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ntigone 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protagonist must possess this quality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atal (tragic) fl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is the tragic hero in Antigone.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downfall of Antigone’s tragic hero is caused by this personality trait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event in a tragedy leads to the hero’s downfall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3124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astrop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reon decrees that this person must not be buried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nie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fears breaking Creon’s law because the punishment is so severe.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3276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me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is the punishment for breaking Creon’s law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ston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ntigone prefers to follow these law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ods’ la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DAILY DOUBLE) Creon sentences Antigone to this, changing his mind about the original decree.</a:t>
            </a:r>
            <a:br>
              <a:rPr sz="4400"/>
            </a:b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4266720"/>
            <a:ext cx="7010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be locked in a stone vault (cav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tries to kill his/her father, then turns the sword on him/herself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em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380880"/>
          <a:ext cx="8458200" cy="5867640"/>
        </p:xfrm>
        <a:graphic>
          <a:graphicData uri="http://schemas.openxmlformats.org/drawingml/2006/table">
            <a:tbl>
              <a:tblPr/>
              <a:tblGrid>
                <a:gridCol w="1814760"/>
                <a:gridCol w="1660320"/>
                <a:gridCol w="1660680"/>
                <a:gridCol w="1662120"/>
                <a:gridCol w="1660320"/>
              </a:tblGrid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Classical Dra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How Tragic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Breaking the La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Dea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Quotab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tries to plead for execution, but Creon refuse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m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commits suicide by hanging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g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se two characters die in battle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nieces and Eteoc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stabs him/herself in the castle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yd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character said, “Anarchy, anarchy! Show me a greater evil!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 know I must die, even without your decree: I am only mortal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g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ig words are always punished, and proud men in old age learn to be wise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rag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time is not far off when you shall pay back corpse for corpse, flesh of your own flesh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3885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ires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law is strong, we must give in to the law… I must yield to those in authority.”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m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920" y="259056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ne reason why Creon changed his mind about Antigone’s method of execu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81080" y="838080"/>
            <a:ext cx="4876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NAL 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Classical Drama originated in this country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7920" y="3200400"/>
            <a:ext cx="4876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 classical play only included this many actor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31240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lassical Drama originated in festivals that honored this god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581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onys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is group of people would sing and chant on stage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r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se are the names for the circular and platform area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chestra and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 a tragedy, the protagonist is called this.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gic her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19:17:47Z</dcterms:created>
  <dc:creator>Cathy Campbell</dc:creator>
  <dc:description/>
  <dc:language>en-US</dc:language>
  <cp:lastModifiedBy>deborah gottner</cp:lastModifiedBy>
  <dcterms:modified xsi:type="dcterms:W3CDTF">2010-02-11T03:29:43Z</dcterms:modified>
  <cp:revision>10</cp:revision>
  <dc:subject/>
  <dc:title>PowerPoint Presentation</dc:title>
</cp:coreProperties>
</file>