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DA2-0A7B-4538-9853-D9D2E806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D57-E69D-4CB3-970F-1DEF2F33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8CF-AC4C-4234-9131-83DC7CC4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717-5C5B-4C45-B46B-E6FAAFAD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1DCC0-2398-4FAF-A3AC-E28A6FFB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7C61F-A200-43E5-B28E-9489B196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B8683-2036-401E-8B4D-0D37458A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3E360-721A-4948-B026-6A67F963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13DC5-1348-4A2E-AC53-08F8E4B8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B1281-C1E8-4D4A-A08C-1550F89C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3CB82-4B65-4CCC-B286-9AAB1519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646-D0C7-464E-A235-56130ED4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1D1E6-DEC1-430D-8440-47253B4B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50BF7-4652-42EC-A58D-E489DA7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88A9E-0883-43EC-8E39-274FC8E9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4D39C-447C-4D1E-98FF-26384637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30C52-509D-4002-A53E-822FDE77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FB50-CBE3-4739-A1AC-D51F2285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8E38-9D0D-4874-9F0C-0D43E31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D00D-FD90-44FE-9D52-FEC3B12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3B2B-150A-4262-B799-8E1480B6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2823-F9F1-4DDA-A40F-05525523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4DC-3E32-4E0A-8AF0-BFD21C8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BE06-B077-4F8D-95CF-716AB03D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B1BE-DA9B-45C4-A660-747A18D8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A5F0-A685-46F4-A2C0-5199EEFA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9288-0AE4-41BF-8732-9DFE5E4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4DD2-424E-4F7E-9EDB-21651C73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92D4-7119-40D3-A1DA-0CD04962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6FA3-8B5B-416A-8417-E68C1615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4912C-F76C-4B43-B437-32681363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789DD-CA56-486F-8B2D-3829E00D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AB7BA-89EC-40AA-B5AC-21D524D4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7A5-8599-403F-9E54-D639B7F6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BE083-294A-484B-9E57-AA143C17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8348DA-C689-4F37-ADCF-D7BD0D24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DAD10-0A87-4EA5-8402-D5E81669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B4BC8-0A92-4469-BA47-AB6B811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F9AD0-D22F-4A16-8516-447FC28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1D2B54-64F4-40B1-BDF0-D79AAAE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825D7-F318-439E-B4D1-D28CEA3F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60F642-3DAC-4121-B566-25E5D6C7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4D396-1977-4313-9472-B3F495C2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A3A-1417-41F1-9EDC-6D867675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6A1-1E36-462E-922C-BD65FB51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333-67F3-402A-A9B3-EC24128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845-CAD0-449F-AAE1-68D654D0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CA9-56B7-4A24-AFC9-B736FE32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AA05-ACD4-4CC1-9FCD-F776AC572CB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B4CF-36D5-45C7-874D-6ED8E90C5E3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2C97-B4B2-4954-BC14-1861B9DFE1A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2451-A63C-4644-98B0-6A01AB936B9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PowerPoint created by Mrs. Jennifer Kittel of Roosevelt High School in her most extreme awesomenes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finition of a “song” according to Dictionary.co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. a short metrical composition intended or adapted for singing, esp. one in rhymed stanzas; a lyric; a balla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. a musical piece adapted for singing or simulating a piece to be sung: Mendelssohn's “Songs without Words.”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3. poetical composition; poetry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4. the art or act of singing; vocal music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5. something that is sung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we look at the definition of song, we see that a song is really just a poem set to melod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 musical artists, no matter how “great” are poet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ir work should be read and analyzed as if it were poetr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Content Placeholder 4" descr="30806930-30806933-thumbnail.jpg"/>
          <p:cNvPicPr/>
          <p:nvPr/>
        </p:nvPicPr>
        <p:blipFill>
          <a:blip r:embed="rId2"/>
          <a:stretch/>
        </p:blipFill>
        <p:spPr>
          <a:xfrm>
            <a:off x="5029200" y="2209680"/>
            <a:ext cx="304812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ohnlennon.jpg"/>
          <p:cNvPicPr/>
          <p:nvPr/>
        </p:nvPicPr>
        <p:blipFill>
          <a:blip r:embed="rId3"/>
          <a:stretch/>
        </p:blipFill>
        <p:spPr>
          <a:xfrm>
            <a:off x="4648320" y="37339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pac.jpg"/>
          <p:cNvPicPr/>
          <p:nvPr/>
        </p:nvPicPr>
        <p:blipFill>
          <a:blip r:embed="rId4"/>
          <a:stretch/>
        </p:blipFill>
        <p:spPr>
          <a:xfrm>
            <a:off x="6477120" y="1066680"/>
            <a:ext cx="2361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. Pick a song to nominate for a Gramm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riteria for your song: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t must be school appropriate. Do not bring in a song that is so overtly sexual, derogatory or one that glorifies illegal activities such as violence or drug/alcohol abuse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Your song should speak to you on a personal level. Pick a song that you feel is timeless in its message  and one that deserves to be acknowledged for its excellence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Analyze the lyrics of the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 Create a present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r presentation must consist of the following element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1. An explanation of the song’s conten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 must go line by line, stanza by stanza and annotate the poem for your classmates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r translation must answer the question: What is the song about?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2. Provide background information on the artist/song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with your audience information about the artist that is relevant to the song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3. How the songs moves you or how you relate to it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personal experiences, make inferences. This is why it is important that you pick a song that has meaning to your life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4. Examine Poetic Device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xplain the rhyme scheme and meter and how they enhance the melody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connect figurative language devices such as metaphor, simile, and personification to the overall meaning of the so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peech should be rehearsed and on note-ca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ough you do not need to memorize your speech, you should look at the audience every couple of sentences. Rehearsal will help you in practicing techniques to do th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provide your audience with a visual of the lyrics of your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also choose to play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a portion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ong for your classmates; however, I do not require thi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45:23Z</dcterms:created>
  <dc:creator>jkittel</dc:creator>
  <dc:description/>
  <dc:language>en-US</dc:language>
  <cp:lastModifiedBy>Gottner-Grant, Deborah</cp:lastModifiedBy>
  <dcterms:modified xsi:type="dcterms:W3CDTF">2010-02-25T13:46:12Z</dcterms:modified>
  <cp:revision>116</cp:revision>
  <dc:subject/>
  <dc:title>English 10 Grammy Awards</dc:title>
</cp:coreProperties>
</file>