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174-5F82-4854-BFD5-7DAF0300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7FE-9DF2-42E0-83F7-96D6CDCF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E3B1-ADFB-48BF-9624-679A6A9B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BD1-B8E6-47A5-82F2-9347D8B4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FDD9A-161D-4746-9B8E-C222F22F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4EA75-64FA-4C09-A893-2E23FC6E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9FBB3-B986-486E-A2F6-EB9E0C79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E64E7-1F61-4465-BF53-995CBB10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70351-9BCD-4C73-B848-10DB10D2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FB1D8-9922-413E-A6B5-4113EEBC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1F550-F7B5-443D-B8B1-03E6DFD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564-754B-4C3F-9CE3-8BD843D0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B0C10-AE16-455F-9D1D-8FE507D0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184C5-0540-461E-A1CB-762EFA25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3C6B4-F12E-44DB-A198-E608CA30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A9C9D-9F1E-4F5C-9790-7ACDA32E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7CB55-C52E-419C-9449-B03CF847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C508-B765-47D8-8FB8-2B842EE9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5F9B-9363-48D6-9FF5-AAFA165E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8008-7A9C-4A69-BABF-DA4AC756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299A-DDC0-47B5-A754-B136AC0E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F8CE-B7F7-4512-A118-898BF007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707-8347-4782-A183-0BAF8DD0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1CA2-6B93-4211-950D-2526B1FB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7D6D-8CF8-4AAD-AF36-5EAC66F1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4A8D-1226-4E65-BD5A-40E3A4B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D6A2A-0927-41E9-9690-13EB32F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D80C-744D-4AAE-B990-81AA8E98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30745-01DE-4070-8653-0D5C224A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B0D75-27C3-4E8E-B4D3-CAADD30D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5EEB2-6EFA-4451-A0FE-963F2BF4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38228-652B-4339-9739-53951A8D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5C252-49AA-4C6B-9BA7-CA20265F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89B-81A0-49D3-970E-0CC9DDCC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E4751-FDE8-42E4-942C-CB383BC5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086FFF-1F17-49EA-A7B1-42E2959E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F9B47A-CB92-48C5-A245-046755B5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73E015-C4DB-40BC-B5BF-BEFBF8CF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C0AAE-E7D2-4C08-871F-0D01AD4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53C9A-84FC-4CD1-93CE-D5B0CC27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FEEED3-B4DB-4C08-BAF7-0D690177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B6F5E-7F10-4E75-BA7D-AAD62815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CDB2E-B52B-4D9C-8169-FF9F7159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984-4CF8-4CAA-AE05-6BE5DB05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4A0-963F-4FE6-A81C-E73DC42B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2CF-3541-4E7B-89BC-D37FF6AF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887-FD0F-4150-AC03-A77D53AA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5BE-97E5-4E03-A265-442D30CA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8DDE-C888-4884-8EA9-65EEEE9EBA5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6C4E-F758-45FB-8A8C-78AFB4460C1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E776-080F-444A-BD2C-DCF3CCF6F50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3E51-FC3E-4B04-9E57-92B5B066064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PowerPoint created by Mrs. Jennifer Kittel of Roosevelt High School in her most extreme awesomenes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finition of a “song” according to Dictionary.com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. a short metrical composition intended or adapted for singing, esp. one in rhymed stanzas; a lyric; a balla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. a musical piece adapted for singing or simulating a piece to be sung: Mendelssohn's “Songs without Words.”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3. poetical composition; poetry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4. the art or act of singing; vocal music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5. something that is sung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we look at the definition of song, we see that a song is really just a poem set to melod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 musical artists, no matter how “great” are poet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ir work should be read and analyzed as if it were poetr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Content Placeholder 4" descr="30806930-30806933-thumbnail.jpg"/>
          <p:cNvPicPr/>
          <p:nvPr/>
        </p:nvPicPr>
        <p:blipFill>
          <a:blip r:embed="rId2"/>
          <a:stretch/>
        </p:blipFill>
        <p:spPr>
          <a:xfrm>
            <a:off x="5029200" y="2209680"/>
            <a:ext cx="3048120" cy="259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ohnlennon.jpg"/>
          <p:cNvPicPr/>
          <p:nvPr/>
        </p:nvPicPr>
        <p:blipFill>
          <a:blip r:embed="rId3"/>
          <a:stretch/>
        </p:blipFill>
        <p:spPr>
          <a:xfrm>
            <a:off x="4648320" y="37339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pac.jpg"/>
          <p:cNvPicPr/>
          <p:nvPr/>
        </p:nvPicPr>
        <p:blipFill>
          <a:blip r:embed="rId4"/>
          <a:stretch/>
        </p:blipFill>
        <p:spPr>
          <a:xfrm>
            <a:off x="6477120" y="1066680"/>
            <a:ext cx="2361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. Pick a song to nominate for a Gramm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riteria for your song: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t must be school appropriate. Do not bring in a song that is so overtly sexual, derogatory or one that glorifies illegal activities such as violence or drug/alcohol abuse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Your song should speak to you on a personal level. Pick a song that you feel is timeless in its message  and one that deserves to be acknowledged for its excellence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. Analyze the lyrics of the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 Create a present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r presentation must consist of the following element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1. An explanation of the song’s content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 must go line by line, stanza by stanza and annotate the poem for your classmates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r translation must answer the question: What is the song about?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2. Provide background information on the artist/song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with your audience information about the artist that is relevant to the song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3. How the songs moves you or how you relate to it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personal experiences, make inferences. This is why it is important that you pick a song that has meaning to your life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4. Examine Poetic Devices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xplain the rhyme scheme and meter and how they enhance the melody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connect figurative language devices such as metaphor, simile, and personification to the overall meaning of the son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peech should be rehearsed and on note-ca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ough you do not need to memorize your speech, you should look at the audience every couple of sentences. Rehearsal will help you in practicing techniques to do th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provide your audience with a visual of the lyrics of your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also choose to play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a portion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ong for your classmates; however, I do not require thi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45:23Z</dcterms:created>
  <dc:creator>jkittel</dc:creator>
  <dc:description/>
  <dc:language>en-US</dc:language>
  <cp:lastModifiedBy>Gottner-Grant, Deborah</cp:lastModifiedBy>
  <dcterms:modified xsi:type="dcterms:W3CDTF">2010-02-25T13:46:12Z</dcterms:modified>
  <cp:revision>116</cp:revision>
  <dc:subject/>
  <dc:title>English 10 Grammy Awards</dc:title>
</cp:coreProperties>
</file>