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7F4-4590-438D-A232-0BEC47CD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73A-12D5-4E00-87C1-3080D7BE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D6F-B9B0-4019-90CA-9E7A29DE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21F-2B87-44DA-A7A3-38B06E60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5F523-447E-4757-BCE4-25E26D8A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69DC5-3C07-44E4-BA8A-CE1C3727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0F91D-080D-428D-AF0B-84FFE0E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046EE-55F7-4EDA-9BD0-51476555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74EC-D404-4353-A4D0-A9A4373E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9EE7-1A58-403F-8508-7F1A5D8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9067F-F24D-42EA-B1A4-9028D9A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AF5-FA19-4066-91BC-681551FE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785B4-769D-4E27-9108-4187904A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BC0E-DD3C-491D-B208-77A41D2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14909-6735-4879-B5C6-BA2AD996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2BA9-2738-4624-B7A1-6DCBCD68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6ABB2-E704-4C01-BEB0-255194F9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406E-854A-43FC-8E5A-D81A6607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2E62-7C85-4738-B87F-2F29416C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2020-9969-4C38-8CFA-03427877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544B-F72D-48DC-ABD9-A8C8473C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469E-67AE-4F31-AFDF-29441E02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B77-A7EA-4B46-A725-5D111C99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147D-CB7E-4109-9B9A-6713B854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E4E5-C903-4D8A-ABAB-F564EF5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EDEE-DB0A-4B14-916F-F69ED24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C3C6-EE76-40F8-AB46-48FAEF9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C384-E272-419F-ABCA-537331B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BAE8-7B85-42F0-B852-EF6DD64B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8045-E332-440C-9691-84443308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F2A5C-9789-4A97-9429-63F1395C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058FC-74EE-465E-9571-D03A8BE4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4E4B6-92E1-43E6-98F5-46429BE5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61C-99C8-4FAD-903B-8539AC26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422F7-2917-4EC1-BA22-86EF92F9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EC6AA-6FA1-46FA-9945-FAE621E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BC04D-3810-4805-8713-717AEF0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A1FA1-3EA2-4F81-AD7B-EA32FB87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5A5CD-7688-4667-B275-730861C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836B3-4C94-440F-BD47-50E1A03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064E1-FC09-4566-8E13-C93C96C6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D55B7-53AF-4C30-958D-2B8E6F6A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A307A-0BAE-4199-A63F-EFF88CB6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051-5F8A-4013-AAC5-2BA26B43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DE1-4280-4969-95F0-6EDE29B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5C9-F119-428A-8009-D060DAC3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FAF-9F84-4C02-BE13-700F4F4A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57E-A362-4DE5-BC6F-5D92B7C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6F0D-E878-4FAA-91FE-DC066A49156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BAD3-460E-4EED-AC4C-E593B08ECB9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BB23-2060-4B0C-A27B-2C70229E8AA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15B-6659-4685-9BFD-6492A418252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werPoint created by Mrs. Jennifer Kittel of Roosevelt High School in her most extreme awesomenes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finition of a “song” according to Dictionary.c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. a short metrical composition intended or adapted for singing, esp. one in rhymed stanzas; a lyric; a balla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. a musical piece adapted for singing or simulating a piece to be sung: Mendelssohn's “Songs without Words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3. poetical composition; poetry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4. the art or act of singing; vocal music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5. something that is sung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we look at the definition of song, we see that a song is really just a poem set to melod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musical artists, no matter how “great” are poet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work should be read and analyzed as if it were poetr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Content Placeholder 4" descr="30806930-30806933-thumbnail.jpg"/>
          <p:cNvPicPr/>
          <p:nvPr/>
        </p:nvPicPr>
        <p:blipFill>
          <a:blip r:embed="rId2"/>
          <a:stretch/>
        </p:blipFill>
        <p:spPr>
          <a:xfrm>
            <a:off x="5029200" y="220968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ohnlennon.jpg"/>
          <p:cNvPicPr/>
          <p:nvPr/>
        </p:nvPicPr>
        <p:blipFill>
          <a:blip r:embed="rId3"/>
          <a:stretch/>
        </p:blipFill>
        <p:spPr>
          <a:xfrm>
            <a:off x="4648320" y="37339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pac.jpg"/>
          <p:cNvPicPr/>
          <p:nvPr/>
        </p:nvPicPr>
        <p:blipFill>
          <a:blip r:embed="rId4"/>
          <a:stretch/>
        </p:blipFill>
        <p:spPr>
          <a:xfrm>
            <a:off x="6477120" y="1066680"/>
            <a:ext cx="2361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Pick a song to nominate for a Gram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riteria for your song: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t must be school appropriate. Do not bring in a song that is so overtly sexual, derogatory or one that glorifies illegal activities such as violence or drug/alcohol abuse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Your song should speak to you on a personal level. Pick a song that you feel is timeless in its message  and one that deserves to be acknowledged for its excellence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Analyze the lyrics of the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Create a present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presentation must consist of the following el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. An explanation of the song’s conten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 must go line by line, stanza by stanza and annotate the poem for your classmates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r translation must answer the question: What is the song about?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2. Provide background information on the artist/song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with your audience information about the artist that is relevant to the song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3. How the songs moves you or how you relate to it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personal experiences, make inferences. This is why it is important that you pick a song that has meaning to your life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. Examine Poetic Device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xplain the rhyme scheme and meter and how they enhance the melody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connect figurative language devices such as metaphor, simile, and personification to the overall meaning of the so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peech should be rehearsed and on note-ca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ough you do not need to memorize your speech, you should look at the audience every couple of sentences. Rehearsal will help you in practicing techniques to do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provide your audience with a visual of the lyrics of your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also choose to play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a portio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ong for your classmates; however, I do not require thi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5:23Z</dcterms:created>
  <dc:creator>jkittel</dc:creator>
  <dc:description/>
  <dc:language>en-US</dc:language>
  <cp:lastModifiedBy>Gottner-Grant, Deborah</cp:lastModifiedBy>
  <dcterms:modified xsi:type="dcterms:W3CDTF">2010-02-25T13:46:12Z</dcterms:modified>
  <cp:revision>116</cp:revision>
  <dc:subject/>
  <dc:title>English 10 Grammy Awards</dc:title>
</cp:coreProperties>
</file>