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BD5-509C-4745-811E-AC17E41C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51A-5469-48E0-BB9D-D16A3D58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B2E-12E4-4E65-946E-8AA1C32D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8B2-823F-43E7-9A98-9E980FA7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A0E0-0720-425F-8BCD-1473D128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C172B-BCE1-477F-95C3-E5AD844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5368E-4869-497B-BD89-F1F5206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9D7B3-1577-4022-A93C-4F947AE1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976A9-69D5-413E-9174-7B442FA9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3F86E-68ED-438C-9E38-52831C6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CEA10-1C97-4423-A454-98A8243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BE0-469F-48C2-BB72-C413BB89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A3B3C-6AA2-42EE-8276-8A305BDC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E0B1D-3E1B-4815-8FE2-7B4B23FE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D045A-A84E-4C13-9503-EAC8F7B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C6541-0001-44B8-92A0-02025205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FA2FC-6FF0-4BF2-ADA1-C7E05386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FAD9-D6DD-47FA-8992-905C7827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74F9-B075-42CC-99EA-043137C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E021-C65C-47F4-B6B2-B198E7DE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AD78-A2FD-4769-9E97-27E91BF9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F3A3-6561-43B7-B4DA-1E2FF48A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B2C-EFAD-438E-8BC9-D147185F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A1DC-3ED7-4CAA-9754-E3C2ED2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3045-8D88-4537-9988-7CDA5D9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5DA7-777B-4AA1-91CA-4E53205D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9662-6BE0-47F3-9495-2F10171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D3C7-6E42-4F94-A87B-58F0FA2C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F304-26E8-48BA-AFCB-88D18D84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CEA0-AB4F-49F7-932F-1D00EB19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1409A-99EA-4022-B44C-EFEC622B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932DE-9725-4D81-9C16-A95DE1F9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9EEA4-54CF-421F-BCA4-C430DCD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514-9D23-4E3C-B0DA-058BD84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24713-6562-46AE-8A62-087998FD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EEAB9-57A4-4032-B9F9-9444721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51040-D001-4C1A-B31C-2C39F0F9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9D903-5C1D-4E75-B527-C21192B1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8E4E7-933F-456B-8E56-8E1A6F4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E5DCD-EEC3-432E-BD4C-CEC76CC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27C32-B55E-436E-92FE-F3CCD14F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3138D-BC5F-45BE-B5C9-126643E2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A805C-35EB-4344-912A-04C19734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AB3-C069-49E1-A3F5-E48D61F1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5A2-AE4F-418D-BADF-EB8748F4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8A1-C531-4914-B228-6B430C1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9B0-BC70-41C1-AEC7-BD9DA97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EA6-033C-45B8-AD7E-4A404B1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846-8BD7-409B-8798-D8620EA635E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3838-F03F-4C3F-8FAE-25374674061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018C-0AAD-4773-A41B-1F1CC75F391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2AA0-69FA-4A31-9181-78C8F398253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werPoint created by Mrs. Jennifer Kittel of Roosevelt High School in her most extreme awesomenes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finition of a “song” according to Dictionary.c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. a short metrical composition intended or adapted for singing, esp. one in rhymed stanzas; a lyric; a balla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. a musical piece adapted for singing or simulating a piece to be sung: Mendelssohn's “Songs without Words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3. poetical composition; poetry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4. the art or act of singing; vocal music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5. something that is sung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we look at the definition of song, we see that a song is really just a poem set to melod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musical artists, no matter how “great” are poet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work should be read and analyzed as if it were poetr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Content Placeholder 4" descr="30806930-30806933-thumbnail.jpg"/>
          <p:cNvPicPr/>
          <p:nvPr/>
        </p:nvPicPr>
        <p:blipFill>
          <a:blip r:embed="rId2"/>
          <a:stretch/>
        </p:blipFill>
        <p:spPr>
          <a:xfrm>
            <a:off x="5029200" y="220968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ohnlennon.jpg"/>
          <p:cNvPicPr/>
          <p:nvPr/>
        </p:nvPicPr>
        <p:blipFill>
          <a:blip r:embed="rId3"/>
          <a:stretch/>
        </p:blipFill>
        <p:spPr>
          <a:xfrm>
            <a:off x="4648320" y="37339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pac.jpg"/>
          <p:cNvPicPr/>
          <p:nvPr/>
        </p:nvPicPr>
        <p:blipFill>
          <a:blip r:embed="rId4"/>
          <a:stretch/>
        </p:blipFill>
        <p:spPr>
          <a:xfrm>
            <a:off x="6477120" y="1066680"/>
            <a:ext cx="2361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Pick a song to nominate for a Gram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riteria for your song: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t must be school appropriate. Do not bring in a song that is so overtly sexual, derogatory or one that glorifies illegal activities such as violence or drug/alcohol abuse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Your song should speak to you on a personal level. Pick a song that you feel is timeless in its message  and one that deserves to be acknowledged for its excellence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Analyze the lyrics of the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Create a present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presentation must consist of the following el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. An explanation of the song’s conten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 must go line by line, stanza by stanza and annotate the poem for your classmates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r translation must answer the question: What is the song about?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2. Provide background information on the artist/song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with your audience information about the artist that is relevant to the song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3. How the songs moves you or how you relate to it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personal experiences, make inferences. This is why it is important that you pick a song that has meaning to your life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. Examine Poetic Device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xplain the rhyme scheme and meter and how they enhance the melody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connect figurative language devices such as metaphor, simile, and personification to the overall meaning of the so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peech should be rehearsed and on note-ca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ough you do not need to memorize your speech, you should look at the audience every couple of sentences. Rehearsal will help you in practicing techniques to do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provide your audience with a visual of the lyrics of your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also choose to play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a portio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ong for your classmates; however, I do not require thi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5:23Z</dcterms:created>
  <dc:creator>jkittel</dc:creator>
  <dc:description/>
  <dc:language>en-US</dc:language>
  <cp:lastModifiedBy>Gottner-Grant, Deborah</cp:lastModifiedBy>
  <dcterms:modified xsi:type="dcterms:W3CDTF">2010-02-25T13:46:12Z</dcterms:modified>
  <cp:revision>116</cp:revision>
  <dc:subject/>
  <dc:title>English 10 Grammy Awards</dc:title>
</cp:coreProperties>
</file>