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9E8-AABC-4525-B829-EB17AE02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E3D-525A-4A4A-AB38-1BAA34F6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0BB-4767-4CCA-B646-820B808C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9FB-C74F-488E-B0B7-3D5C4421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F1A50-E624-4088-9E6D-43DEFC66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3139C-B87C-4C3B-A131-F6E7E9EF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19F18-4B21-4377-B4F2-68BE9A04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D59DD-C148-4E27-BB67-230512F0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53DB7-F5ED-41FE-B47D-55DC2F0B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4A843-37C9-4DF9-B835-AE31CE5C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70FEA-4846-4A0F-91C7-E17AD894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D89-EBB2-45FA-9D72-9F000C8F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EABCE-F30B-459A-B470-59BC495C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8B93C-9D48-40F1-94CC-B9A7B534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A5522-9C6A-462E-959C-FA090293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BDE22-8123-4398-B7EE-843BD7A8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03B65-5280-4426-AF1E-ED7CBA4D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8FC9F-180D-42AC-8C87-BCD35CBD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EF5C1-3AF6-4E52-94CA-3929DCC4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54C27-045A-4B41-8252-E9C57EBC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6C136-8A31-483E-A6C9-F08069DD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856B2-35DF-4A4F-A33C-475F196D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F21-DA95-4BAE-A08F-A1D83BAD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C129-245F-42E6-A8A1-29EF5194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55FE7-3B28-49B5-AF0A-21239A5C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25033-8638-4EE5-A4B5-2B20CCB8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EBB2-5F9F-4509-91B7-432BE9A2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72192-D7F4-4CAC-9904-1C95ABA2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967F-B8AF-4DE9-8A7D-E0D5D65A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6FEDD-FDE7-408D-BDCA-0BA70D63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6F0F53-406F-46D0-B832-F2F1B21B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D21411-91F1-48EA-ABBF-714FB339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AE563-CE81-410C-967F-B004075B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1D7-122F-4567-9C1F-36CE8EB6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29EE65-1EBA-44AE-B671-D37A4AFE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60E9F9-75D3-4206-8287-40DB8E16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B80353-93A1-49CD-9334-FEA3DD98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5DA0F3-9502-41E2-91C0-993E1889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484A77-6CDC-4EA7-9C8A-7C709330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F621C2-E277-48AE-8589-EBAA58D8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98F585-0A78-42A2-BE0F-B7708420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0E54F0-484B-4463-B28A-C7C1B492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F942EA-1874-415A-9FA1-15084B05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9CC-C6ED-47AD-83C8-50594A62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E95-F673-4D39-AE10-84D6ED2A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4ED-D82D-46EC-80CE-3514A3B4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4B5-712C-4032-9E88-68927E2F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C1F-6674-44F3-8FE7-DA016FFB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245F-41BC-4CBF-BD6B-58DEBC98595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1B6F-92B7-466F-836C-7EB38FCEAC3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46AB-5A8B-498C-8DAD-A38B517470D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E62F-E3D5-49C5-B5B0-5ED8F88FD6F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PowerPoint created by Mrs. Jennifer Kittel of Roosevelt High School in her most extreme awesomeness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finition of a “song” according to Dictionary.com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1. a short metrical composition intended or adapted for singing, esp. one in rhymed stanzas; a lyric; a ballad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2. a musical piece adapted for singing or simulating a piece to be sung: Mendelssohn's “Songs without Words.”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3. poetical composition; poetry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4. the art or act of singing; vocal music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5. something that is sung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en we look at the definition of song, we see that a song is really just a poem set to melody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l musical artists, no matter how “great” are poet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ir work should be read and analyzed as if it were poetry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Content Placeholder 4" descr="30806930-30806933-thumbnail.jpg"/>
          <p:cNvPicPr/>
          <p:nvPr/>
        </p:nvPicPr>
        <p:blipFill>
          <a:blip r:embed="rId2"/>
          <a:stretch/>
        </p:blipFill>
        <p:spPr>
          <a:xfrm>
            <a:off x="5029200" y="2209680"/>
            <a:ext cx="3048120" cy="2590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ohnlennon.jpg"/>
          <p:cNvPicPr/>
          <p:nvPr/>
        </p:nvPicPr>
        <p:blipFill>
          <a:blip r:embed="rId3"/>
          <a:stretch/>
        </p:blipFill>
        <p:spPr>
          <a:xfrm>
            <a:off x="4648320" y="3733920"/>
            <a:ext cx="2209680" cy="2133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pac.jpg"/>
          <p:cNvPicPr/>
          <p:nvPr/>
        </p:nvPicPr>
        <p:blipFill>
          <a:blip r:embed="rId4"/>
          <a:stretch/>
        </p:blipFill>
        <p:spPr>
          <a:xfrm>
            <a:off x="6477120" y="1066680"/>
            <a:ext cx="23619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. Pick a song to nominate for a Gramm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riteria for your song: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994680" indent="-22608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It must be school appropriate. Do not bring in a song that is so overtly sexual, derogatory or one that glorifies illegal activities such as violence or drug/alcohol abuse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Your song should speak to you on a personal level. Pick a song that you feel is timeless in its message  and one that deserves to be acknowledged for its excellence.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. Analyze the lyrics of the so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. Create a presentatio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our presentation must consist of the following element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1. An explanation of the song’s content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You must go line by line, stanza by stanza and annotate the poem for your classmates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Your translation must answer the question: What is the song about?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2. Provide background information on the artist/song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Share with your audience information about the artist that is relevant to the song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3. How the songs moves you or how you relate to it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Share personal experiences, make inferences. This is why it is important that you pick a song that has meaning to your life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4. Examine Poetic Devices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explain the rhyme scheme and meter and how they enhance the melody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connect figurative language devices such as metaphor, simile, and personification to the overall meaning of the song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10240">
              <a:lnSpc>
                <a:spcPct val="8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>
              <a:lnSpc>
                <a:spcPct val="8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speech should be rehearsed and on note-ca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ough you do not need to memorize your speech, you should look at the audience every couple of sentences. Rehearsal will help you in practicing techniques to do thi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 may provide your audience with a visual of the lyrics of your so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 may also choose to play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a portion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song for your classmates; however, I do not require thi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9:45:23Z</dcterms:created>
  <dc:creator>jkittel</dc:creator>
  <dc:description/>
  <dc:language>en-US</dc:language>
  <cp:lastModifiedBy>Gottner-Grant, Deborah</cp:lastModifiedBy>
  <dcterms:modified xsi:type="dcterms:W3CDTF">2010-02-25T13:46:12Z</dcterms:modified>
  <cp:revision>116</cp:revision>
  <dc:subject/>
  <dc:title>English 10 Grammy Awards</dc:title>
</cp:coreProperties>
</file>