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9F7-653E-4932-8B83-5C5B8868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B8B-D302-4E33-96D5-F734F67B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6EE-684E-40DD-AA68-D173F018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40B-953E-4278-B697-4CE3102A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AF2-FDE8-4B06-B834-F90D9E8B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6D8-D17D-4C31-A78F-717C8B26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73A-BD5A-4AEC-9685-D3A954F1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A8E-78CA-45E6-8548-771CE366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BF0-6BD1-4F29-B80D-282AF180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BC7-F85C-4571-9EA9-A62B55B3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71F-DFAF-4BAA-A4E6-3641A2FF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A3B-2671-4651-86D8-0804171C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B29F-1D65-47E4-AC1B-8FF1DC99F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Montevallo High School</cp:lastModifiedBy>
  <dcterms:modified xsi:type="dcterms:W3CDTF">2003-11-03T17:56:02Z</dcterms:modified>
  <cp:revision>4</cp:revision>
  <dc:subject/>
  <dc:title>Identifying the Elements of A Plot Diagram</dc:title>
</cp:coreProperties>
</file>