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17F-4079-4F60-865F-5281079F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19F-49DA-4E55-8DD9-68B51FAF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8BF-3043-4BAE-A9AC-C2D0C756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688-0EF3-4782-B12A-19E75C0A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66A-767C-4822-93B8-90CC5C9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5F0-8041-46A8-A068-BEAF5E13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1FF-8051-4679-A8B4-E398B2F9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FC3-C3EF-4F2A-81B5-7A41CF15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BEE-6A9F-4A12-92D6-49F9C3A4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693-F2A1-48BC-A195-8BAF303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D11-6EF2-4BA0-8FD4-067EDBDA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6CF-478F-48E0-9C70-07A80E7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DECA-F725-4E49-8458-2796639A6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Montevallo High School</cp:lastModifiedBy>
  <dcterms:modified xsi:type="dcterms:W3CDTF">2003-11-03T17:56:02Z</dcterms:modified>
  <cp:revision>4</cp:revision>
  <dc:subject/>
  <dc:title>Identifying the Elements of A Plot Diagram</dc:title>
</cp:coreProperties>
</file>