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8B2-807C-46AC-BE66-56C4D9AB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3E4-E86B-4AE2-A825-45135A6A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A58-246F-4D4C-A5C1-EA7913E2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464-BEB7-4CB8-A4CB-26680FAC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C7A-AB31-41D0-8CB4-E2FC1A5D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16C-87B7-44AF-9FDA-0320CB02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9F2-8944-4CD3-AD11-3C5264CB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18B-7823-4A5D-8725-88B9E1B9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2BC-8441-4471-8C97-0526E14B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192-FEB9-442D-AA97-C8A002E5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4FC-5709-4DC8-9C3C-4D4B47D4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4FC-4F1A-4A7D-9F11-4D734D2E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85A4-0A8A-4C50-9539-D17622D3A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Montevallo High School</cp:lastModifiedBy>
  <dcterms:modified xsi:type="dcterms:W3CDTF">2003-11-03T17:56:02Z</dcterms:modified>
  <cp:revision>4</cp:revision>
  <dc:subject/>
  <dc:title>Identifying the Elements of A Plot Diagram</dc:title>
</cp:coreProperties>
</file>