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266-9342-4F37-BB68-58C851AE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F7B-B97B-464F-A365-5C725932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9A9-B66F-47BB-985D-B18076C0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DAC-765A-4C8D-B236-C680FFB1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2126-6622-474B-876A-0C35640C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45EB-12AA-4185-96E0-39E93F06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82D4-D95A-42C4-AA82-89885ABB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6FD1-CBC9-4D1B-BEFD-80A67CD7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8162-0DEC-4420-80F1-781EA806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13CE-F6EF-4C29-AFCB-C9B4BF34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A66-1663-4762-BBE1-01ACC77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685-32A6-4E5C-B5A0-76564040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8A25-E38F-4CC5-A6B2-10E363BD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A612-C7D0-4AAA-A24D-DB37D24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823D-4B03-427C-A999-86AC2701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2DDF-4928-46AB-9934-0ED44F88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2A88-F5E0-422C-928C-2C51ACB9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695B-B38D-4994-9CEB-A283DB17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EB5E-93EC-4AA9-B92B-F7F45BD9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A7C9-9006-4D06-B3B3-DE7CCA83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466C5-ED84-4509-94A2-E2B5DA6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0AB8-7652-4B18-9D4F-37C165DD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846-F58D-4F2E-8CF9-FECB558A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A0A8-1D21-4C80-B823-4322CFB1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BD59-0A7F-465E-BB1E-A603D55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9639-3ADB-48FD-9B45-0E7E2447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A8D76-E215-4C1A-822A-1F722C17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2302-ECC0-4F2B-8922-C9B64915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49A6-95FB-4A0E-BBDA-C6D6C7BB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1B90-92DD-4830-A846-4A73107A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163FD-5251-44F7-8C9B-E7B2BBEB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9720-0729-47E6-9462-E5BEDA1E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D849A-DB98-464E-8BE4-7E012A78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724-041D-4E9B-91C5-5EA1FBD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40A7F-1D94-4B36-9ADB-1DF6F7F0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C159C-A90B-47E3-B5B4-754D9C37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39475-BBA9-41BF-A2BB-DFC07107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33DC5-C689-494B-9AFA-772FAD80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71FF-6EDD-4207-AC99-7E817E06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1A798-573B-463C-86F2-C4E59E0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2D67-CE7E-40F5-A839-8DB9EC1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4483-17E4-4C26-AC59-317AA7CC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61EB8-2506-4B1F-A433-27313A51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9C43D-C36C-4DB7-BE2A-80876C43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F08-12AF-4147-BE5F-5BEEE2B3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6705C-E303-4C0B-9EC2-3B14ADA3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EF966-B719-44E8-8547-737F35A0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59F98-1E2D-4C87-8FBC-E67D0FEE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410AC-8A88-4E0C-8A75-F4D84E9C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C4786-808F-4D4A-B0D6-5F11877E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65880-4F69-4141-845D-B6D8658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1B831-4DB7-431C-B89C-16F48027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4703D-8500-4258-941C-3EEC1FC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3E95D-8BE1-4CCF-AF8F-B0C16830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4821A-2A85-4F3C-9EF7-264C24DD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FD4-CD43-45A8-9C79-CDC2EC65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CD5A-2B35-43F5-AA57-C43301BC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267C5-8279-4993-AED0-8CC256E5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9E12E-F627-4BA4-874A-93A37096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4659-5DF0-4EF9-8F04-1442E394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805B7-813E-41DC-ADAB-89F2D61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F3B3-B6E1-4CCF-AFD3-7DF91431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84EB-06E5-4F94-8BCF-842D4EB6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908FD-062A-4B16-BB4F-11AF418A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C049-4FEF-4C26-9213-CDF1325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D4C85-2E06-458D-99EE-D37057D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242-D38D-4D61-BE18-A799098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C9EB3-5819-408F-830F-E4903A8B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55CA5-A03B-45ED-B3E4-B2F81981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550F3-72D9-45E8-9D4D-403C7404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D3B8D-C451-4F55-B59C-ED14B12D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90EA4-3E72-4E05-A263-609E16C8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A2EF0-CA23-4714-9D34-8F2834F5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3F18-CFF0-41D1-B33B-BEBF2DD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DE220-B1E2-43E9-B47B-FB0330DD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B50D1-D4CD-420A-9120-FFD8E142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C69A0-3EA2-46B4-BD31-E8CD82CA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35B-3212-4662-84FA-DB4250AC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E3E7-AFC0-4FB1-92A0-D81102C5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7272-183F-4257-A3D6-1E6189E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7C429-E26C-4A76-8259-748C106A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6C16A-F8B7-4ABE-9AF2-790AE301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CA0A2-ECD1-4164-8F4B-F3C2EB10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515-3D85-4CE2-897B-14DD78F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FCD4-9116-4924-8DAB-7D392687710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DC0-89E7-46AF-BE86-FA6341C9D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E061-3C1A-43BE-942B-78EFC7C527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4CEB-95F7-4A0E-8316-22045C9F2C0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176E-7504-479C-AE33-36B6B4F80EB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015B-90B6-44B3-8612-6CE9A049DA0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9B41-93AA-450F-B3DE-D61BE3022F0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ts and Character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lace, state, or condition that is ideally perfect in respects of politics, laws, customs and tradition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Dystopias start out as someone else’s ideal socie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can argue that the United States of America is founded on Utopian principle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uturistic imagined universe in which oppressive societal control and the illusion of a perfect society are maintained through corporate, bureaucratic, technological, moral or totalitarian control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stopias, though exaggerated, make criticisms about current trends, social norms, and politic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ropaganda is used to control citize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nformation, freedom, and independent thought are restric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figurehead and/or concept is worshipped by society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are perceived to be under constant surveillance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have a fear of the outside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live in a dehumanized stat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natural world is banished and distrus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conform to uniform expectations. Individuality and dissent is ba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ociety is an illusion of a perfect utopian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rporate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e or more large corporations control society through products, advertising and/or the media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inority Repor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Running Ma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reaucratic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a mindless bureaucracy through a tangle of red tape, relentless regulations, and incompetent government officials. Example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Brazi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ological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technology through computers, robots and/or scientific means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Terminato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 Robo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ilosophical/Religious Control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philosophy or religious ideals often times through a dictatorship or theocratic governmen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els trapped and is trying to escape society’s oppressive fo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Questions social and political no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lieves and feels that something is terribly wrong with the society he or she lives i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lps the audience to see what is wrong with society through their experiences in the tex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11:28Z</dcterms:created>
  <dc:creator>jkittel</dc:creator>
  <dc:description/>
  <dc:language>en-US</dc:language>
  <cp:lastModifiedBy>Gottner-Grant, Deborah</cp:lastModifiedBy>
  <dcterms:modified xsi:type="dcterms:W3CDTF">2010-04-13T13:16:35Z</dcterms:modified>
  <cp:revision>7</cp:revision>
  <dc:subject/>
  <dc:title>Dystopian Characteristics</dc:title>
</cp:coreProperties>
</file>