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937-835E-4A2F-9C87-AF687DAF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98A-29AF-4BEC-AFBB-8DD61D0B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30C-FD2C-4768-B103-CF138177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AA3-D4F9-4CDE-82E0-92D76817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C0AD-E611-47F8-B310-DFF208E4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EBCD-1214-4477-97B8-4E0E5069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5788-76E0-42CE-9528-1A65E37E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BB97-16CF-45FA-90C8-6071E530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ABC5-D0F0-4F94-A375-06443E40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3099-4286-47BC-8AE3-8CEAB0EF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D283-53D0-4F46-A56F-C761607C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103-4EAD-4C26-A995-FD71CDCF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CF15-CCD0-4336-B28B-24B5A6D5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C79A-BCD2-4E41-AAE4-4383BBC8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E0B9-3DAD-4E4F-8D1D-7E4E3591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696E-A520-4CC5-AD13-8348EF37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CD0E-9138-42C5-9B75-4BB844E4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21287-B561-4707-ABC0-A2B493E4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01DF4-75C5-4394-A32D-6D1A3BC8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72EE-1682-4FDC-97B8-1DDD7CBE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CC867-69FE-411F-AB5C-121EF983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A1AA7-0087-4F36-B7FC-A6F903F1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5B6-21EF-4208-89BC-FF5AC719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CE86C-E355-4EFC-9D18-0B31D6A9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80911-1FD4-4BCA-A57B-F1316995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E1227-0DEA-4C1B-8DCD-E06F0CD6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FF33-BD41-4C9A-89AD-EDEC766B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23E29-F649-4C68-95EA-DA93ECD9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1FE9D-2C13-43BD-BBA3-664A905D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D5F3-AE1E-4022-BA15-95BF5B97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ABC04-90E8-4DB8-862F-CDF1B916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AB66F-7E9E-4C19-A4EE-5DF3BDFC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8EC58-A497-4D9C-B7E4-69107942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10A-B3B8-46C8-99D4-F591C523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740DD-8331-4EE4-9B5B-3FB22692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A3EE4-5E24-488D-83D4-821BD2AE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3D630-6B87-44EF-A0CF-09760602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1281E-0C3D-4BCF-B674-F1517CE6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C87CE-3825-40AD-9CE4-B28BADEA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A2819-D13E-491F-8DF4-23F41D87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11BC2-E2B3-419D-B7C1-A7CE6C70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CE96F-CA05-49DF-A4AF-509D76AE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6E5AE-8878-4D7F-8A4D-FA30D669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A4FAD-C150-43F4-8145-224DF91B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CE6-6BBB-40E0-B03D-B84DCE30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584FC-67C6-44EC-987C-D4161F86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273D1-54C4-4BE0-A782-6FB9EDB7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3AD51-2AA3-4EED-B7AE-7596E159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B03D2-956E-4CE8-82CE-B9D823B1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E5269-B63E-43F2-AB41-175810E2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1EE23-3FBF-4014-A0BF-781FA9AD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66B7D-C937-438B-9D1A-58C801C5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04472-E0D1-4A77-8A92-5594FCDF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6A903-B003-4E8F-A191-512B3924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18A9A-2860-4C7F-82BE-26E5651C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B6F-F5C0-4412-BFCE-C125085A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BA2B0-048C-4D52-BCEA-1EA80074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1FBF4-7A74-4B69-9D88-FFD5B01C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202D9-98B8-41B1-B60E-9874C267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C9788-8369-4532-8407-51BDCA4C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EECA1-664D-4F97-9BBE-655B080E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5BEB5-C710-40C9-94C8-A5E08B9C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05A11-0E57-48B0-99D3-069434DC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D4E51-92FA-4D84-9606-5A8C86F0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BDEA5-5EF0-4A68-BB81-8BF958FD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D9DDA-7C63-444A-879B-F36F824A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DB7-C075-477D-BC3A-D71D29C4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89DBB-23A2-4666-B9EB-EFAAD4B0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A5DB9-1456-4B9A-B4D1-91846321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5F1CF-C09C-4846-9B3F-69EC11F7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F08C5-1DC0-4A4A-9CD6-287B6C45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1A07B-CB0D-495F-B3AF-E15A8106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1CABA-DAB7-4F43-926A-7895EDC8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A3006-6F70-46EC-A7E7-1BEE458F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94AE3-8AB1-4CE1-8138-5C265E25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F9CE8-E799-4F5B-9B23-6AC52393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21093-2635-498C-BA37-455D2DA4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C5C1-38DB-4C4F-A28F-41C0D690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1B7EC-E80A-4418-A34F-1B90B99D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FBF15-E69A-429E-8D06-F03BD332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E8AB3-0B6C-41C6-BF49-EF9BCD93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96F29-57D4-4528-BF5F-707407EB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7FD94-4A85-4EE5-9640-D3465BAC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A17-A362-4D82-AD95-F30EE907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50F3-2C57-412D-BC2A-2BF63FE6925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4439-348D-4FB9-B8B1-36D2E8EE47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1BFB-9DC0-4664-BF84-B7D4EF5221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B069-3983-442A-A2C4-389C0B63196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953E-1162-4BB2-8111-C84801DA4C0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4BD5-C863-4E3E-BD93-BAD157340CA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013F-AAEB-4798-8FBF-C75BCB05253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3157560"/>
            <a:ext cx="808992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raits and Character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lace, state, or condition that is ideally perfect in respects of politics, laws, customs and tradition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Dystopias start out as someone else’s ideal societ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can argue that the United States of America is founded on Utopian principles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uturistic imagined universe in which oppressive societal control and the illusion of a perfect society are maintained through corporate, bureaucratic, technological, moral or totalitarian control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ystopias, though exaggerated, make criticisms about current trends, social norms, and politic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Propaganda is used to control citizen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Information, freedom, and independent thought are restricte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figurehead and/or concept is worshipped by society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are perceived to be under constant surveillance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have a fear of the outside world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live in a dehumanized stat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natural world is banished and distruste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conform to uniform expectations. Individuality and dissent is ba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society is an illusion of a perfect utopian world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rporate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ne or more large corporations control society through products, advertising and/or the media. Examples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Minority Repor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Running Ma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ureaucratic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a mindless bureaucracy through a tangle of red tape, relentless regulations, and incompetent government officials. Example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Brazil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chnological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technology through computers, robots and/or scientific means. Examples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The Terminator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 Robo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hilosophical/Religious Control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philosophy or religious ideals often times through a dictatorship or theocratic government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eels trapped and is trying to escape society’s oppressive for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Questions social and political nor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lieves and feels that something is terribly wrong with the society he or she lives i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lps the audience to see what is wrong with society through their experiences in the tex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11:28Z</dcterms:created>
  <dc:creator>jkittel</dc:creator>
  <dc:description/>
  <dc:language>en-US</dc:language>
  <cp:lastModifiedBy>Gottner-Grant, Deborah</cp:lastModifiedBy>
  <dcterms:modified xsi:type="dcterms:W3CDTF">2010-04-13T13:16:35Z</dcterms:modified>
  <cp:revision>7</cp:revision>
  <dc:subject/>
  <dc:title>Dystopian Characteristics</dc:title>
</cp:coreProperties>
</file>