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3E4-85EC-4964-B7EC-48012B0D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1A2-5418-47F3-AF23-A4AC1926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13C-46FD-4639-BB0D-07480CA4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BCE-30BC-4BAD-9D5C-B768286E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97B2-B36F-4260-816D-83E8EB19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83BF-BB0B-49EC-945B-763D5E91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953A-4920-4F94-A337-71A2F0CA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5D0B-5001-42E5-85E6-7096704D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D58B-9286-4214-9B62-0FAF4585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9B39-885A-4FFC-91E7-8618B5C0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D533-9080-4718-9D75-472C6ACB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4FC-A6C7-4359-85D0-74E4009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26D4-7B49-40C6-A564-4D8DFBC2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BFCF-2218-43E1-ACDB-90C24ED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94C0-600F-4A78-A754-879FD21E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01FE-AC97-4BAF-9840-F6523441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9BA9-BB36-4877-BA9A-00108163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F6AE-1FFD-43D4-AC36-3D9271A0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3AED3-072C-408F-A05F-8F0741DE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69845-B5F3-4A0F-AD96-583A5357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447F-3F75-4BE4-AF76-FA1A3557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77A4D-DB26-4798-95B4-21F8CC8D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2A7-499E-462C-980E-33DD35EC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89F6-7800-4D36-8B78-A6526508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02EB-352C-4CF8-B87C-FA25345A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889C-2E60-4D67-9ED1-7E85977A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B90F-D1CB-4500-835D-01324F5C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FBF68-CD51-4220-BDFE-407B51A4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4C83-6868-43A2-A8FC-FE32D493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3AE5-39E5-4B30-B9E9-A0AD99D1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33D0-7D27-42FA-88AA-8F5358AD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920F-4D66-495D-8D2A-AC388111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19334-6175-4F33-9D72-53369D4B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692-1BBA-455C-9AD6-53DCCF33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DE8E8-48FE-432D-A915-0355D744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CB586-DC06-4076-AEF8-D7FDA7C2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25511-A1F9-4EE0-886C-6F93B4B3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9C7F3-034C-4CB9-92F1-2B266DAC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B5692-D8C8-4255-9BFD-E2063897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3868E-74C5-4436-8F8F-95504197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32337-7A8E-40D0-AD4C-02CC2DBD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D2CAA-6F26-40EB-9F5D-9FCE3CA7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4D6B-60A6-485A-9DBF-5CAD156E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F6EAC-A54F-45AE-B520-485577CC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6E7-BBBD-486A-A2FD-F84A6B28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9570E-0E66-4440-91AE-B550F44F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C00C-0607-4CEF-9C3F-E781B0B6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4EE8C-0EFD-4BEC-BA76-2325E36E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72235-CADD-460B-8E6F-79831A57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C4CE-19E8-42DE-A21A-CC92C292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7988B-BFE4-4924-8A2F-FA7EEB33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D39D4-9098-4FEE-9CDB-4EC3B008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99890-9E6C-461C-B198-B312CFED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1739A-123C-4C48-8C33-C42274EF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FEE48-309A-4AC2-A709-73E093CC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47A-3A54-42F5-BEEF-2CB562B2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E002E-9BC8-45B7-ABB0-E0585864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EBF9B-351E-4D90-A934-13C936DF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2198E-EC91-474D-A1C2-4BDD5011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87ABC-CE6F-4DB6-8FCC-5159A353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F4E56-5A04-4418-8FEE-B0C38520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452B8-4C21-4B2B-81BB-B22BDBDA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0F2FD-9133-41BD-8B0F-3C775917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0A732-9CA3-4AB3-9296-2F56A040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B3AA0-FA7C-41A1-AA05-0AAC9786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F16F-904C-4E36-AEFE-C3BCE750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23A-FECD-455E-97D4-BD1ABC60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F6F2C-A5BD-4291-B6E1-19E1D12B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ADA84-820A-48C4-B9FC-99243380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925EA-23A8-419C-A201-1940904B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EC955-B2C8-4E89-8962-1BA86066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B9433-C5AD-4FEB-B5DA-B77AE4B9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A073A-090E-4EBE-B039-C31082C5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E979F-29AA-4A76-9B95-35E91FDE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4F9FC-E1D1-45EA-A901-9B0A1608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1F58D-C6C7-4E46-BD36-B0AD4D49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358F5-C598-4230-8C60-7EF01538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030-22C7-4E6C-A2D5-B23607E4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0B346-1E66-4F22-8427-C8AFB650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0D1D4-9A1D-4D3B-AFA3-9E2CF1E5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6FE47-D59D-49F6-82CE-47CF9448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A8859-C082-4220-B0FA-F960C918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85EFE-1A28-45F5-A995-0F9DA196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DEF-34A7-4FC0-9CC8-3695405A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6B0F-0870-499D-98EE-F382CFCEA57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2D1E-FF0C-4083-ACAD-D6C760CE07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F835-77B9-4EDD-8E08-693915CF0C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EB89-D08D-4A78-9D49-D6866FFF6CD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6E56-993E-42CB-917B-B7D5E8DDB79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D392-3C1D-4333-B83C-AB5C629488A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72F0-A88E-4C5B-8E2B-53359EFF3FF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157560"/>
            <a:ext cx="808992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raits and Character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lace, state, or condition that is ideally perfect in respects of politics, laws, customs and tradition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Dystopias start out as someone else’s ideal socie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can argue that the United States of America is founded on Utopian principles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uturistic imagined universe in which oppressive societal control and the illusion of a perfect society are maintained through corporate, bureaucratic, technological, moral or totalitarian control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ystopias, though exaggerated, make criticisms about current trends, social norms, and politic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Propaganda is used to control citize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Information, freedom, and independent thought are restricte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figurehead and/or concept is worshipped by society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are perceived to be under constant surveillance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have a fear of the outside world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live in a dehumanized stat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natural world is banished and distruste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conform to uniform expectations. Individuality and dissent is ba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society is an illusion of a perfect utopian world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rporate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e or more large corporations control society through products, advertising and/or the media. Examples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inority Repor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Running Ma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reaucratic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a mindless bureaucracy through a tangle of red tape, relentless regulations, and incompetent government officials. Example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Brazi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chnological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technology through computers, robots and/or scientific means. Examples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Terminato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 Robo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ilosophical/Religious Control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philosophy or religious ideals often times through a dictatorship or theocratic governmen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eels trapped and is trying to escape society’s oppressive for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Questions social and political nor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lieves and feels that something is terribly wrong with the society he or she lives i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lps the audience to see what is wrong with society through their experiences in the tex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11:28Z</dcterms:created>
  <dc:creator>jkittel</dc:creator>
  <dc:description/>
  <dc:language>en-US</dc:language>
  <cp:lastModifiedBy>Gottner-Grant, Deborah</cp:lastModifiedBy>
  <dcterms:modified xsi:type="dcterms:W3CDTF">2010-04-13T13:16:35Z</dcterms:modified>
  <cp:revision>7</cp:revision>
  <dc:subject/>
  <dc:title>Dystopian Characteristics</dc:title>
</cp:coreProperties>
</file>