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AB67-163D-4D06-96AA-9F036DE60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1F94-71E1-49C0-A224-E74641DC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A858-8F18-403C-8AEB-2B9064615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82D3-1FFE-493E-82EA-611407C70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601D-3A2A-4A07-9E96-C78FE7304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A378-A2D9-48D8-8068-C7722D7B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38A5-1C36-4912-B56B-3D936576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4569-73A6-4B82-B7C4-526CC913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075A-8525-420F-8E8B-AD0F872D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A8FF-3B6D-4BD6-A414-A1F18D6A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A83B-CDA3-4B52-8923-2440F955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5900-71DB-4E5F-91EB-EF25798E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443C-DF78-4B9D-9CD8-F59E0FD2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CCF9-136E-460F-9024-30432CDD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33B2-B03A-4D25-95AD-CAFA7D4D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1EF9-C725-4D93-B62B-7DA1F301B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EF01-433B-43C3-A191-DAF0A5AC3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0D4FE-0900-43E8-A772-D80182C1C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EA537-9343-4CF0-8908-8ED92913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82B32-16C8-4197-8AAD-6AC9440D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60CEE-0CDD-47F6-BE41-37039927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53BD9-6F11-4034-8FC0-CD52D886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7601-DB76-4514-B7B7-E12834B6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71A27-2C2D-461C-BC1B-BFA8A26A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17DCB-91C7-4C04-9C7E-BC352B0F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83F10-401D-479D-B3F7-7FE5EDA8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6858C-D57F-4A90-A69C-C07D0140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8107C-60B6-421B-8019-D1934FAE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71594-1A95-479C-A21B-2FB34D386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D624B-D600-484D-803B-F49EE890A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FEE34-19D1-4095-9A25-D8ECD3285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67591-24C7-496A-B49C-F6CE1BC6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7D88C-1ED9-489D-9A8E-A530673E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E92D-1F98-4828-A1C3-7018CCA8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3F45D-DCC4-4B9A-8C11-B0FCF23E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6B6F1-7BD1-4455-87A7-967CD017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B5076-0533-42EA-8B45-B9E2808D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8E67D-1CB1-49B6-ADB9-4DFA4DB5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DC7AB-EC69-450C-8084-E8D51B88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1AD54-9883-47F2-9EDC-DA0B28BF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22B38-13FC-4386-A3E4-615CC425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78484-87DA-49CA-B750-26E20E6AA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9DCDD-8BED-4762-BF11-6A2637E22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07451-99F8-42DA-8116-AEE6B0828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40CD-B648-4ED1-AB5B-2036906C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BEC68-F8FF-474B-AD2D-0DFD278F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4F63F-2C9B-46B6-8960-7DD72407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8F0CA-5E5B-4EF6-A2FB-1EF002C6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66937-0C65-40A0-92E0-E4E1359C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B45D6-1D96-4E20-AE1B-FD2FABCD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38D03-433C-46F2-B7FF-CAC80F00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C787F-E2C2-4397-A9CC-5EE696E4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813A5-F8B4-4EA6-A7A1-83698CD4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086EC-2723-4A64-B707-DE808C42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DC13F-5CF3-4567-A104-8CDA2E46E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D506-A200-43CF-BAB4-6CE0E2FC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82E55-9BA8-477F-984C-6B6DEE18A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82B22-4A80-4470-AAB8-FD09F0FC0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D4033-5519-47A5-B3B4-B019AFE0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0A1A8-0EC0-4065-BFAC-C0387BE3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57337-E028-42FF-9775-07E0EE78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2F9B9-B239-4EBA-ADE6-351E8528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9BA52-6766-4359-A382-D0FCE50F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6EC19-8B9E-4D84-8978-05C68CEB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83C14-858E-439C-BBD3-68F9263E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CFB1F-9EED-4902-B8DA-E1FDFE99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F5B1-24A5-4FD5-BAE1-90B0908B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5215A-D48A-4B54-B4BC-E0291C78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38A6C-4CBC-4921-89B2-338F46B6A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4B17E-3F0C-4F8B-974C-88C9E35D6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A8462-F2B4-40CC-904B-4186CA940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3F184-1C83-4221-B6A1-56DD67B9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E8229-12AD-4AA5-BE00-694BC8B4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A5AAD-A970-4969-BE3B-354E5A94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8926E-9440-489C-A1F7-F8D72463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7A274-A1DC-4AA5-909F-7233B2CA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44E88-771E-4CD2-BEBE-67E0B320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F583-ED60-4705-8CE8-FEB02869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C9E4B-CFDC-4BBE-A60A-EE8604F6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5D6E5-C118-4B56-95F2-EB375488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83999-70C3-4A34-AB90-9A1221CC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6E3D7-B7A7-4837-986D-585D6E18D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D9E69-37DB-455F-9742-F140BE705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454D-39DE-4298-8561-E7D4C50F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3096-6E50-4C48-AA11-4C3813B9631E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0ABC-D156-4792-9047-D1A62F8D1B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758C-FDE9-462B-8208-1B51F9F9ED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4434-AD1D-4BA4-9439-72B6FF2CFD95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D792-7958-4E9A-AE18-D5BECF9908D6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428E-8EA5-4AC8-AAD4-E08FA9A5C933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FB28-046E-4934-81B2-96532027E37B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2560" y="3157560"/>
            <a:ext cx="808992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raits and Character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place, state, or condition that is ideally perfect in respects of politics, laws, customs and traditions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ny Dystopias start out as someone else’s ideal society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ny can argue that the United States of America is founded on Utopian principles.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futuristic imagined universe in which oppressive societal control and the illusion of a perfect society are maintained through corporate, bureaucratic, technological, moral or totalitarian control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ystopias, though exaggerated, make criticisms about current trends, social norms, and politics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3000"/>
          </a:bodyPr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Propaganda is used to control citizens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Information, freedom, and independent thought are restricted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A figurehead and/or concept is worshipped by society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Citizens are perceived to be under constant surveillance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Citizens have a fear of the outside world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Citizens live in a dehumanized state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The natural world is banished and distrusted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Citizens conform to uniform expectations. Individuality and dissent is bad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The society is an illusion of a perfect utopian world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9000"/>
          </a:bodyPr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rporate Control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One or more large corporations control society through products, advertising and/or the media. Examples include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Minority Report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Running Man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ureaucratic Control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ociety is controlled by a mindless bureaucracy through a tangle of red tape, relentless regulations, and incompetent government officials. Example include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Brazil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echnological Control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ociety is controlled by technology through computers, robots and/or scientific means. Examples include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The Terminator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I Robot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hilosophical/Religious Control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ociety is controlled by philosophy or religious ideals often times through a dictatorship or theocratic government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aracteristic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eels trapped and is trying to escape society’s oppressive forc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Questions social and political norm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elieves and feels that something is terribly wrong with the society he or she lives i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elps the audience to see what is wrong with society through their experiences in the tex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4:11:28Z</dcterms:created>
  <dc:creator>jkittel</dc:creator>
  <dc:description/>
  <dc:language>en-US</dc:language>
  <cp:lastModifiedBy>Gottner-Grant, Deborah</cp:lastModifiedBy>
  <dcterms:modified xsi:type="dcterms:W3CDTF">2010-04-13T13:16:35Z</dcterms:modified>
  <cp:revision>7</cp:revision>
  <dc:subject/>
  <dc:title>Dystopian Characteristics</dc:title>
</cp:coreProperties>
</file>