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7B51-A0FA-457A-A6BA-E86E85B3C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93C0-6440-4D11-BEAB-4433C775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C1DE-3F3F-4E74-B0C8-C9D60357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41A8-F4C9-4AC2-981B-2012F9E7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0CB7-1219-4FCC-8B9A-F48B300CA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4D7A-48CD-4364-B389-F74B5DB2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A916-9E47-4F97-9143-A912A610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C944-C507-4C2F-8036-CEBE083A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7B32-5C8C-4702-A072-1D6A3115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C118-CDF5-426D-B18D-C7EEBC62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9C2F-E792-4D1C-B46E-CFAB6574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0699-C929-437F-9E89-C1F5B334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9084-C6C2-4DE0-8BC1-757331AE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77C3-090B-41B2-98E9-C557C625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0276-210F-4613-9396-D23AE4F9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5B9D-FEC3-4EC2-B6A1-F290B4C2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1154-A9E5-42D9-852A-DAF8CA1F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C0076-7742-42F5-8864-8D188AD98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24214-3297-4285-B5C8-DE613443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264DC-DC51-478B-BA58-44199570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2B6AF-A872-4DD2-B922-06B8B336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B1044-E300-46CA-BFCA-5AA1138F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6A56-9A99-445B-9115-3D548BBD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66F7E-DABF-4656-BBB4-65B95044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E0075-45B0-4B67-AD57-E1B4351B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02515-6787-4F15-9054-695D5B0A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0FD99-BDC5-40E7-8B2A-A26F6486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3C0AB-79A8-4B00-AB8F-6AC8CA19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B9934-5630-4444-A935-881095F0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2D74F-61F4-45F9-A1C0-A215DFC3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5A914-E60C-4FA2-96CC-F55351AD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3F772-EA02-463A-BCDF-847BD1BE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930B8-E20E-423C-AE82-E8718794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2D92-DE55-410A-9BFF-1047FE2E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28ABB-D517-4B3E-9DE4-0D5738ED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09B8F-2E22-4087-8AE3-703D55D6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1F224-4058-4981-96CF-26D192AE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62FD9-9519-4CCF-9082-022238DB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6D6BC-A63C-4F4C-A0E5-A15A7AFB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0C972-DEBF-448A-B7C8-ADC5934D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D86A1-2108-4350-93FB-3A959616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E84AE-0030-491B-9EA0-7E890E5C2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0EC52-1DEF-473C-AE4F-9031DB70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2A7DE-13AE-4F70-94A3-0555A4A9F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0062-0DFC-45D6-BC4E-3BE715D8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35089-8CAA-4561-878B-E8A0CFD3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E600F-E58C-4931-80EE-1DDC34B6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F4659-EA04-4FE3-9A69-4ED35117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9B65F-2A58-4104-BE90-AB110839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9C42B-1203-4D41-98FD-CCB77634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5D235-2329-400D-A896-6B9771DF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2872A-12B3-4C18-B77D-B2A964A8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AB294-AFAE-440B-874C-F6FBF308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06C28-49C1-4EB5-A3E4-DA303BE1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20CC7-1837-42F1-A9AE-618824F9E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FADE-6568-4007-909D-AFB482BB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03F5A-E300-4486-99A0-BE52A64F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872B6-3497-424A-8D5E-F9C94D64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200DD-C44F-443A-9E48-C02A7C87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AFCF9-3C97-4B16-84F1-6A93F8F9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AF705-0D5B-4753-A13E-F847CF9C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777F7-1D67-4F90-A931-9CD21442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58032-99EB-490B-AE11-02498D17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E4BFA-4DAC-4AA5-BD29-B63F2227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B0AD9-7E84-4C57-A021-48AD9741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FAB50-F57E-4146-840E-4C5ED18C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63AF-AF10-451A-8766-5D6BAFE2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7BCF7-C559-493F-B48D-8DD6078F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87696-DF34-4802-9714-724EA5926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5AA95-1C72-40D1-804B-D0A601558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0186A-E53A-45A8-B329-64BDEE7DF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36041-E3D7-47C5-9E29-0F99C5C5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9783B-DFD7-4564-99FD-D0885CC0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38A5F-0F7A-4D1E-AC5E-9FE3CEFF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73CE3-6D79-4634-B267-B496323A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79B5A-5725-43FF-8B86-EE640D47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CA119-D20A-454B-8442-3016C3BD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FBAE-E1B5-4572-A2D4-7E592DFC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4DAC9-0602-4935-9DDA-956F08D8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AD3B2-C281-471E-9D6B-1BF3EA8B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CC3FC-8C9E-495D-8C9F-BA7B2A86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D76E3-306D-483B-9AE5-BF41CB686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F0234-1BC4-4F23-9D34-E80860A11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B6FD-2E06-4FCF-AE02-DC4BCAD8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3AA5-E8B8-49A6-8449-6BE5B75DF54E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AC73-4419-4045-9CD1-A8BA956B01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7111-2D42-4453-9A6D-F7153A6616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3A01-087C-410E-982C-9FA4A9AC99E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49EB-2A8E-4909-8EFE-715C5E5A8EE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DE89-28BF-4978-BEF2-8BAC7F48521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AD6F-451A-4457-B960-2214334EC06F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2560" y="3157560"/>
            <a:ext cx="808992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raits and Character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place, state, or condition that is ideally perfect in respects of politics, laws, customs and traditions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ny Dystopias start out as someone else’s ideal society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ny can argue that the United States of America is founded on Utopian principles.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futuristic imagined universe in which oppressive societal control and the illusion of a perfect society are maintained through corporate, bureaucratic, technological, moral or totalitarian control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ystopias, though exaggerated, make criticisms about current trends, social norms, and politics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3000"/>
          </a:bodyPr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Propaganda is used to control citizens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Information, freedom, and independent thought are restricted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A figurehead and/or concept is worshipped by society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Citizens are perceived to be under constant surveillance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Citizens have a fear of the outside world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Citizens live in a dehumanized state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he natural world is banished and distrusted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Citizens conform to uniform expectations. Individuality and dissent is bad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he society is an illusion of a perfect utopian world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9000"/>
          </a:bodyPr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rporate Control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ne or more large corporations control society through products, advertising and/or the media. Examples includ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Minority Report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Running Man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ureaucratic Control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ociety is controlled by a mindless bureaucracy through a tangle of red tape, relentless regulations, and incompetent government officials. Example includ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Brazil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chnological Control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ociety is controlled by technology through computers, robots and/or scientific means. Examples includ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The Terminator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I Robot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hilosophical/Religious Control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ociety is controlled by philosophy or religious ideals often times through a dictatorship or theocratic government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aracteristic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eels trapped and is trying to escape society’s oppressive forc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Questions social and political norm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elieves and feels that something is terribly wrong with the society he or she lives i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elps the audience to see what is wrong with society through their experiences in the tex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4:11:28Z</dcterms:created>
  <dc:creator>jkittel</dc:creator>
  <dc:description/>
  <dc:language>en-US</dc:language>
  <cp:lastModifiedBy>Gottner-Grant, Deborah</cp:lastModifiedBy>
  <dcterms:modified xsi:type="dcterms:W3CDTF">2010-04-13T13:16:35Z</dcterms:modified>
  <cp:revision>7</cp:revision>
  <dc:subject/>
  <dc:title>Dystopian Characteristics</dc:title>
</cp:coreProperties>
</file>